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76BC9F-D6C0-4D63-8025-3A7F5365EA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755CF0-CC8E-4A8C-AA19-BB6D275BB4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601E9A-8024-43B8-8E12-3C8D36CB03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A98FD9-5F4B-4BAA-8E01-41DAF3C5A9E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F27FEE-6DFB-4471-AF1C-494AD7D5BC3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5B04DB-6E18-4DB0-9A8B-E98024CBE2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9B52E9-1B81-445F-8527-2B076973AF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B6A114-73D1-47B6-947B-AEF37BF313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14DAD8-56FC-403A-A3A5-73CC13E6B6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6714BB-00DA-4542-9C69-95AF08BD74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8B5031-D285-43D7-ADAA-8572A99161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AF8341-CAC0-48FC-A30A-D33CC666CF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1C51A-E80B-470C-B79E-C0E3D0AF6A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317520" y="2781360"/>
            <a:ext cx="380880" cy="609120"/>
            <a:chOff x="317520" y="2781360"/>
            <a:chExt cx="380880" cy="609120"/>
          </a:xfrm>
        </p:grpSpPr>
        <p:sp>
          <p:nvSpPr>
            <p:cNvPr id="41" name=""/>
            <p:cNvSpPr/>
            <p:nvPr/>
          </p:nvSpPr>
          <p:spPr>
            <a:xfrm>
              <a:off x="412560" y="278136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507960" y="295524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365040" y="32166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507960" y="32166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17520" y="30859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295280" y="25909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33440" y="266688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895560" y="28321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765440" y="33685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286080" y="4102200"/>
            <a:ext cx="358920" cy="72216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314280" y="4116240"/>
            <a:ext cx="380880" cy="609840"/>
            <a:chOff x="314280" y="4116240"/>
            <a:chExt cx="380880" cy="609840"/>
          </a:xfrm>
        </p:grpSpPr>
        <p:sp>
          <p:nvSpPr>
            <p:cNvPr id="52" name=""/>
            <p:cNvSpPr/>
            <p:nvPr/>
          </p:nvSpPr>
          <p:spPr>
            <a:xfrm>
              <a:off x="409320" y="41162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04720" y="42904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361800" y="45518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04720" y="45518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14280" y="44211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1317600" y="38862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317600" y="396252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895560" y="4089240"/>
            <a:ext cx="358920" cy="722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765440" y="466236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3286080" y="28195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666880" y="3048120"/>
            <a:ext cx="58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692440" y="4343400"/>
            <a:ext cx="520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49160" y="302256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98400" y="43434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410080" y="33670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448240" y="3390840"/>
            <a:ext cx="1295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00400" y="25146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67160" y="4967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3276720" y="5487840"/>
            <a:ext cx="380880" cy="609840"/>
            <a:chOff x="3276720" y="5487840"/>
            <a:chExt cx="380880" cy="609840"/>
          </a:xfrm>
        </p:grpSpPr>
        <p:sp>
          <p:nvSpPr>
            <p:cNvPr id="71" name=""/>
            <p:cNvSpPr/>
            <p:nvPr/>
          </p:nvSpPr>
          <p:spPr>
            <a:xfrm>
              <a:off x="3371760" y="54878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67160" y="56620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3324240" y="59234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67160" y="59234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276720" y="57927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Document"/>
          <p:cNvSpPr/>
          <p:nvPr/>
        </p:nvSpPr>
        <p:spPr>
          <a:xfrm>
            <a:off x="1714680" y="539604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413080" y="5689440"/>
            <a:ext cx="812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676520" y="545940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477120" y="527220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400800" y="5272200"/>
            <a:ext cx="838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ecked Zone File (with key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3683160" y="5689080"/>
            <a:ext cx="11937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09880" y="25290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876920" y="5119560"/>
            <a:ext cx="11430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019920" y="54626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648320" y="3124080"/>
            <a:ext cx="2895480" cy="3367080"/>
          </a:xfrm>
          <a:custGeom>
            <a:avLst/>
            <a:gdLst>
              <a:gd name="textAreaLeft" fmla="*/ 141120 w 2895480"/>
              <a:gd name="textAreaRight" fmla="*/ 2754360 w 2895480"/>
              <a:gd name="textAreaTop" fmla="*/ 141120 h 3367080"/>
              <a:gd name="textAreaBottom" fmla="*/ 3225960 h 3367080"/>
            </a:gdLst>
            <a:ahLst/>
            <a:rect l="textAreaLeft" t="textAreaTop" r="textAreaRight" b="textAreaBottom"/>
            <a:pathLst>
              <a:path w="21600" h="25118">
                <a:moveTo>
                  <a:pt x="3600" y="0"/>
                </a:moveTo>
                <a:arcTo wR="3600" hR="3600" stAng="16200000" swAng="-5400000"/>
                <a:lnTo>
                  <a:pt x="0" y="21518"/>
                </a:lnTo>
                <a:arcTo wR="3600" hR="3600" stAng="10800000" swAng="-5400000"/>
                <a:lnTo>
                  <a:pt x="18000" y="251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829480" y="614664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800600" y="512280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ck Zone for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6324480" y="4343400"/>
            <a:ext cx="381240" cy="609120"/>
            <a:chOff x="6324480" y="4343400"/>
            <a:chExt cx="381240" cy="609120"/>
          </a:xfrm>
        </p:grpSpPr>
        <p:sp>
          <p:nvSpPr>
            <p:cNvPr id="89" name=""/>
            <p:cNvSpPr/>
            <p:nvPr/>
          </p:nvSpPr>
          <p:spPr>
            <a:xfrm>
              <a:off x="6419880" y="434340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514920" y="45172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6371640" y="47786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514920" y="47786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324480" y="46479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 flipH="1" flipV="1">
            <a:off x="6108480" y="4127040"/>
            <a:ext cx="215640" cy="368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07040" y="561492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842080" y="3860640"/>
            <a:ext cx="63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2.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295280" y="3443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320840" y="47386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673520" y="6172200"/>
            <a:ext cx="28321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876920" y="56530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410080" y="39006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781680" y="3962520"/>
            <a:ext cx="12956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781680" y="4038480"/>
            <a:ext cx="129564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24080" y="22096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733920" y="22096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51160" y="35179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860640" y="35179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51160" y="38196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860640" y="38196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343400" y="38098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Document"/>
          <p:cNvSpPr/>
          <p:nvPr/>
        </p:nvSpPr>
        <p:spPr>
          <a:xfrm>
            <a:off x="6019920" y="3049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981760" y="39384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Document"/>
          <p:cNvSpPr/>
          <p:nvPr/>
        </p:nvSpPr>
        <p:spPr>
          <a:xfrm>
            <a:off x="6095880" y="21337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058080" y="2158920"/>
            <a:ext cx="761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’s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6934320" y="380880"/>
            <a:ext cx="380880" cy="609840"/>
            <a:chOff x="6934320" y="380880"/>
            <a:chExt cx="380880" cy="609840"/>
          </a:xfrm>
        </p:grpSpPr>
        <p:sp>
          <p:nvSpPr>
            <p:cNvPr id="116" name=""/>
            <p:cNvSpPr/>
            <p:nvPr/>
          </p:nvSpPr>
          <p:spPr>
            <a:xfrm>
              <a:off x="7029360" y="380880"/>
              <a:ext cx="190080" cy="174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124760" y="5551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6981840" y="8164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124760" y="8164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934320" y="6858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6934320" y="2209680"/>
            <a:ext cx="380880" cy="609840"/>
            <a:chOff x="6934320" y="2209680"/>
            <a:chExt cx="380880" cy="609840"/>
          </a:xfrm>
        </p:grpSpPr>
        <p:sp>
          <p:nvSpPr>
            <p:cNvPr id="122" name=""/>
            <p:cNvSpPr/>
            <p:nvPr/>
          </p:nvSpPr>
          <p:spPr>
            <a:xfrm>
              <a:off x="7029360" y="22096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124760" y="23839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698184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12476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934320" y="25146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6400800" y="283212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010280" y="1066680"/>
            <a:ext cx="228600" cy="1067040"/>
          </a:xfrm>
          <a:prstGeom prst="upDownArrow">
            <a:avLst>
              <a:gd name="adj1" fmla="val 50000"/>
              <a:gd name="adj2" fmla="val 9292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562720" y="143208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6718320" y="4774680"/>
            <a:ext cx="139680" cy="482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781680" y="365760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6320" y="685800"/>
            <a:ext cx="4724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 Signing with Secured Child Deleg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670880" y="16524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ild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0" y="2286000"/>
            <a:ext cx="15238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lue or location is given as command line arguments to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dnssec_signz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029200" y="2971800"/>
            <a:ext cx="0" cy="80028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717640" y="6197760"/>
            <a:ext cx="1524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lude public keys in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867280" y="2819520"/>
            <a:ext cx="533520" cy="22860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692760" y="1676520"/>
            <a:ext cx="36828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Document"/>
          <p:cNvSpPr/>
          <p:nvPr/>
        </p:nvSpPr>
        <p:spPr>
          <a:xfrm>
            <a:off x="8077320" y="5105520"/>
            <a:ext cx="685800" cy="838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051760" y="5105520"/>
            <a:ext cx="7621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 (with child’s D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Document"/>
          <p:cNvSpPr/>
          <p:nvPr/>
        </p:nvSpPr>
        <p:spPr>
          <a:xfrm>
            <a:off x="8077320" y="3200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039160" y="32767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Document"/>
          <p:cNvSpPr/>
          <p:nvPr/>
        </p:nvSpPr>
        <p:spPr>
          <a:xfrm>
            <a:off x="8077320" y="41911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039160" y="426708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94440" y="152280"/>
            <a:ext cx="3504960" cy="12193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59Z</dcterms:modified>
  <cp:revision>154</cp:revision>
  <dc:subject/>
  <dc:title>Slide 1</dc:title>
</cp:coreProperties>
</file>