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CFB920-4C8A-4E5C-990E-FA1B87181B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BFF8A4-5148-4EC7-87AC-214C0C2DBC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1460BC-3636-4E9E-BBDA-296A91B1EF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60A9E8-5986-4683-AB6C-291F9CC2553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1FD45D-F596-45CC-9855-962B4413510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8A7D9D-EEF3-4860-AA08-3BE88A414B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B78A4E-1DC4-4794-B6CB-01092CEFBC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80BBAD-C4CA-4F49-8D5E-1C0E9F61C0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F02083-7456-455E-B0BF-F345EF7C6A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5FAE47-F79B-4DCC-ADED-B634CC0D4D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299B06-BDEE-4611-B5E7-BCE472A101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928121-6476-4644-B797-65A8B38844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5BDB4-464B-44F1-9EBD-3F9BA3A308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Document"/>
          <p:cNvSpPr/>
          <p:nvPr/>
        </p:nvSpPr>
        <p:spPr>
          <a:xfrm>
            <a:off x="2362320" y="2057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324160" y="21337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3200400" y="2133720"/>
            <a:ext cx="380880" cy="609120"/>
            <a:chOff x="3200400" y="2133720"/>
            <a:chExt cx="380880" cy="609120"/>
          </a:xfrm>
        </p:grpSpPr>
        <p:sp>
          <p:nvSpPr>
            <p:cNvPr id="43" name=""/>
            <p:cNvSpPr/>
            <p:nvPr/>
          </p:nvSpPr>
          <p:spPr>
            <a:xfrm>
              <a:off x="3295440" y="2133720"/>
              <a:ext cx="190080" cy="173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390840" y="230760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3247920" y="256896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390840" y="256896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200400" y="24382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Document"/>
          <p:cNvSpPr/>
          <p:nvPr/>
        </p:nvSpPr>
        <p:spPr>
          <a:xfrm>
            <a:off x="6553080" y="2057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515280" y="215892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6019920" y="2158920"/>
            <a:ext cx="380880" cy="609840"/>
            <a:chOff x="6019920" y="2158920"/>
            <a:chExt cx="380880" cy="609840"/>
          </a:xfrm>
        </p:grpSpPr>
        <p:sp>
          <p:nvSpPr>
            <p:cNvPr id="51" name=""/>
            <p:cNvSpPr/>
            <p:nvPr/>
          </p:nvSpPr>
          <p:spPr>
            <a:xfrm>
              <a:off x="6114960" y="215892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210360" y="233316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067440" y="259452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210360" y="259452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19920" y="246384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3683160" y="2247840"/>
            <a:ext cx="2273040" cy="304920"/>
          </a:xfrm>
          <a:prstGeom prst="leftRightArrow">
            <a:avLst>
              <a:gd name="adj1" fmla="val 50000"/>
              <a:gd name="adj2" fmla="val 14840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581280" y="1066680"/>
            <a:ext cx="129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305240" y="1498680"/>
            <a:ext cx="343080" cy="81288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05520" y="3978360"/>
            <a:ext cx="685800" cy="76176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876920" y="4165560"/>
            <a:ext cx="1143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am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4648320" y="4359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495680" y="42670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553080" y="37339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578640" y="377496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ate Delegation at Par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975360" y="45100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556320" y="4586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10280" y="28195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5791320" y="42670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276720" y="4114800"/>
            <a:ext cx="501480" cy="12016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438280" y="5334120"/>
            <a:ext cx="152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it for the Correct DS to App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876920" y="1600200"/>
            <a:ext cx="3200400" cy="40384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33520" y="38088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ng Delegations – Child-Zone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362320" y="4038480"/>
            <a:ext cx="1676160" cy="2133720"/>
          </a:xfrm>
          <a:custGeom>
            <a:avLst/>
            <a:gdLst>
              <a:gd name="textAreaLeft" fmla="*/ 81720 w 1676160"/>
              <a:gd name="textAreaRight" fmla="*/ 1594440 w 1676160"/>
              <a:gd name="textAreaTop" fmla="*/ 81720 h 2133720"/>
              <a:gd name="textAreaBottom" fmla="*/ 2052000 h 2133720"/>
            </a:gdLst>
            <a:ahLst/>
            <a:rect l="textAreaLeft" t="textAreaTop" r="textAreaRight" b="textAreaBottom"/>
            <a:pathLst>
              <a:path w="21600" h="27495">
                <a:moveTo>
                  <a:pt x="3600" y="0"/>
                </a:moveTo>
                <a:arcTo wR="3600" hR="3600" stAng="16200000" swAng="-5400000"/>
                <a:lnTo>
                  <a:pt x="0" y="23895"/>
                </a:lnTo>
                <a:arcTo wR="3600" hR="3600" stAng="10800000" swAng="-5400000"/>
                <a:lnTo>
                  <a:pt x="18000" y="2749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362320" y="586728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895480" y="5829480"/>
            <a:ext cx="77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2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52480" y="2209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5041200">
            <a:off x="2871360" y="3536640"/>
            <a:ext cx="760320" cy="217440"/>
          </a:xfrm>
          <a:custGeom>
            <a:avLst/>
            <a:gdLst>
              <a:gd name="textAreaLeft" fmla="*/ 118800 w 760320"/>
              <a:gd name="textAreaRight" fmla="*/ 665280 w 760320"/>
              <a:gd name="textAreaTop" fmla="*/ 54360 h 217440"/>
              <a:gd name="textAreaBottom" fmla="*/ 163080 h 2174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09880" y="4191120"/>
            <a:ext cx="609840" cy="228600"/>
          </a:xfrm>
          <a:custGeom>
            <a:avLst/>
            <a:gdLst/>
            <a:ahLst/>
            <a:rect l="l" t="t" r="r" b="b"/>
            <a:pathLst>
              <a:path w="384" h="144">
                <a:moveTo>
                  <a:pt x="0" y="0"/>
                </a:moveTo>
                <a:cubicBezTo>
                  <a:pt x="192" y="36"/>
                  <a:pt x="384" y="72"/>
                  <a:pt x="384" y="96"/>
                </a:cubicBezTo>
                <a:cubicBezTo>
                  <a:pt x="384" y="120"/>
                  <a:pt x="192" y="132"/>
                  <a:pt x="0" y="144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69080" y="532116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09680" y="1752480"/>
            <a:ext cx="1447920" cy="1447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209680" y="28954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629080" y="2857680"/>
            <a:ext cx="72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2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Document"/>
          <p:cNvSpPr/>
          <p:nvPr/>
        </p:nvSpPr>
        <p:spPr>
          <a:xfrm>
            <a:off x="2514600" y="4343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438280" y="449568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701720" y="2514600"/>
            <a:ext cx="9144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80880" y="17668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06440" y="17780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4600" y="2260440"/>
            <a:ext cx="147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1.5 or 5.1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80880" y="2300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15Z</dcterms:modified>
  <cp:revision>154</cp:revision>
  <dc:subject/>
  <dc:title>Slide 1</dc:title>
</cp:coreProperties>
</file>