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08732"/>
        <c:axId val="11206248"/>
      </c:barChart>
      <c:catAx>
        <c:axId val="66608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06248"/>
        <c:crosses val="autoZero"/>
        <c:auto val="1"/>
        <c:lblAlgn val="ctr"/>
        <c:lblOffset val="100"/>
        <c:noMultiLvlLbl val="0"/>
      </c:catAx>
      <c:valAx>
        <c:axId val="11206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08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83E-0E3F-4502-8382-90C8D915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E32-025E-424E-B94A-018F89C4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59B-FCCE-4082-B723-ACFBEF90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281-E4F5-49F5-92CB-56D82070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D42-5475-4FC5-9375-8D95B430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87E-58CA-4360-B5D9-E642D0AC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19D-06B4-43CB-B415-5B1A07EB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963-2E14-463D-8957-9A5C66F5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1FE-F744-4EE1-8418-09857BED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5E0-7F52-4AD8-9B37-3327040D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10C-216A-4880-AF11-748C1C55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D86-533B-4CA4-9F59-53DF9DB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C2DDB-A876-4F39-981E-652AEA7478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