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35655"/>
        <c:axId val="9223937"/>
      </c:barChart>
      <c:catAx>
        <c:axId val="16735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3937"/>
        <c:crosses val="autoZero"/>
        <c:auto val="1"/>
        <c:lblAlgn val="ctr"/>
        <c:lblOffset val="100"/>
        <c:noMultiLvlLbl val="0"/>
      </c:catAx>
      <c:valAx>
        <c:axId val="9223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35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CF7-D235-4DE2-8282-071F6318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FE6-5FF4-4C24-B3D7-85D69976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DCF-6215-4798-AD56-5BAC89B4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D37-DCB1-4ADE-823E-761DB722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B01-C616-46EC-A722-AFF4FEAA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AD4-B795-473F-B4C7-6AE07AF3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391-7D03-4CBB-948B-B30A8FB9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1D7-CD38-4ADB-9D10-D17C142E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765-7D63-45DB-9FE0-1E5BFC5D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C78-1B88-403F-BB26-F9E5FF55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803-2E7E-4EF9-8314-29382FCC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E07-8897-4429-B567-700AD19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9EB3E-2F35-498C-8DE1-B162C952B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