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48425"/>
        <c:axId val="647150"/>
      </c:barChart>
      <c:catAx>
        <c:axId val="28148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50"/>
        <c:crosses val="autoZero"/>
        <c:auto val="1"/>
        <c:lblAlgn val="ctr"/>
        <c:lblOffset val="100"/>
        <c:noMultiLvlLbl val="0"/>
      </c:catAx>
      <c:valAx>
        <c:axId val="647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8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BFF-A12B-4B88-9A15-90363EDA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618-BF8E-42C7-8341-2D674410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BDE-A6D0-4E0B-9D8A-F4F32A0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6F1-321C-4647-8F13-8D850F3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DFA-C10C-4AF8-AEAC-A1CA86E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A5D-D792-40AF-A907-A82D9723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8CE-1433-42BE-A0FF-F6949E7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4B2-9F18-441A-9AEC-F331D7F7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2BC-F5E2-4E61-BE3F-3235B78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243-DACF-4E29-8FDF-7BE1D8D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ACE-47F4-40BF-89F5-5475C12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68E-1A87-431E-A886-64C9086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5CE08-3358-427F-BBE0-CC059F920E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