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31857"/>
        <c:axId val="42435301"/>
      </c:barChart>
      <c:catAx>
        <c:axId val="45831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5301"/>
        <c:crosses val="autoZero"/>
        <c:auto val="1"/>
        <c:lblAlgn val="ctr"/>
        <c:lblOffset val="100"/>
        <c:noMultiLvlLbl val="0"/>
      </c:catAx>
      <c:valAx>
        <c:axId val="42435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31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A16-CAE2-4553-8459-0805616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9A7-9EAD-4C34-943A-F3EB8112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A17-3B4A-43EA-9ED2-410B19FF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155-66BB-4E2B-A87E-74FAB656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AA4-2652-468C-898C-E927DB8D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E4D-B1FC-4FB9-B288-167F415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299-161D-4B0F-918E-E3DA675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62C-46EF-4CEC-B755-C42EE2F1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B0C-E151-4415-9437-8C571D52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36C-67C0-4949-8EDF-62F43D9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3CD-D92B-4C9F-BC5E-DBD0DBE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8D6-434E-4097-8921-C2364BB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364C-3056-49B0-A9F1-E8035A8CCF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