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55310"/>
        <c:axId val="93897300"/>
      </c:barChart>
      <c:catAx>
        <c:axId val="16455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97300"/>
        <c:crosses val="autoZero"/>
        <c:auto val="1"/>
        <c:lblAlgn val="ctr"/>
        <c:lblOffset val="100"/>
        <c:noMultiLvlLbl val="0"/>
      </c:catAx>
      <c:valAx>
        <c:axId val="93897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55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8CB-09E8-45E3-AD5F-18995748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17C-DD67-4471-BE0E-B817FFC6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78F-42AC-4163-9F48-6342A194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1A7-3A1E-4B06-8FEE-2C031502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F01-40EB-45E0-B181-53971199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F4F-F148-468C-AA0A-77589AD9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055-EDA0-43F2-9EF8-78575C93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933-F3F5-475B-805B-26D8A076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DB9-6607-4821-9019-816CB771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6CC-05FF-41B2-9625-58118B31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709-420E-4FD6-AE93-3235A8B6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44C-B77A-4CCB-ABDA-DB8A3217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C7B64-AC89-46B9-A97A-8071088F1A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