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88386"/>
        <c:axId val="80214674"/>
      </c:barChart>
      <c:catAx>
        <c:axId val="54888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14674"/>
        <c:crosses val="autoZero"/>
        <c:auto val="1"/>
        <c:lblAlgn val="ctr"/>
        <c:lblOffset val="100"/>
        <c:noMultiLvlLbl val="0"/>
      </c:catAx>
      <c:valAx>
        <c:axId val="80214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88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2D0-9ADD-4415-ADAB-4251FCCA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9EB-207A-442D-AAAE-37BEAAD8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E60-1CE2-4D44-9C10-09C501DB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40C-0A18-4791-B9AF-3B997607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6B5-69D5-4AB7-9DF3-4F0137AA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89A-C1AE-4999-A4B3-A84BF28B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472-36B8-4C03-9C9D-49A7FE3E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5D4-B8F3-4CA9-A273-C9E5D34E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F2D-1C95-486D-B506-4276AF86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0A9-A272-4B38-B05B-2EBCDC24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6A6-979B-49CD-B524-28A58662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EA1-FE08-41B6-94E9-A24E497F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9EF05-CC76-4995-8325-B9D6886146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