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23833"/>
        <c:axId val="20261401"/>
      </c:barChart>
      <c:catAx>
        <c:axId val="73423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61401"/>
        <c:crosses val="autoZero"/>
        <c:auto val="1"/>
        <c:lblAlgn val="ctr"/>
        <c:lblOffset val="100"/>
        <c:noMultiLvlLbl val="0"/>
      </c:catAx>
      <c:valAx>
        <c:axId val="20261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23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00C-802D-431A-AF29-AFC28E91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924-949C-4BB6-A8DB-636A840F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139-B31A-45E4-BFA7-F538F72B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404-D9A0-4939-9ECE-85848FA7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77B-D741-4D67-BF3A-44CE1ABD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3D7-0453-4006-BED3-78B1E628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0E8-B64F-4D3F-85F7-D49A975F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D7F-91DC-41D6-9286-CEA08F62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A26-AB33-49FB-8B01-01A66168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B20-80FB-4396-BFED-045ECE48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B98-93A0-4E28-A764-5FC1D79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4D2-0DC1-41E0-BA3C-25EDBCD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B8948-36D3-413C-A84D-60CC6F7C1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