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6CDE4E6-58E8-4D23-A393-B197AA78F662}"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F05D67F-2842-4FBD-BD8A-7783A827937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C8FBF23-218F-40B0-B8DE-DCD471A766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FB9B0C-9033-49E0-BEF2-50931A4215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F658587-07BD-4586-87E7-A33AE980CF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39F232B-3BEE-4CB8-8778-B92E5B8974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2AA3E7A-5904-4D1D-972A-22449B16151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5110C64-5F4E-4340-BAE1-BD6EF01BAD4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1D7746A-DFBE-43F8-88D5-8720D83BC3A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3BD15D7-D44A-4DD2-A8C7-20D7DE23BE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3EBBC6A-C502-43B2-AA84-92D3D67FFE0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C3FF8AB-D563-431D-9BC7-C6CFC7D8A6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D84C15D-6F5E-4285-968A-E0BF699039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B746D3-3893-4C35-8F6B-8893ABC55B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65A8C4E-4F7F-4E9D-9926-E8272D49233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FC392A9-3601-46EA-A0C8-65C47D18B24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C5D4758-F44C-4E30-9BD7-52E3CE5884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A2DCC42-F6FD-4590-95B1-A542BBDB1EB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5600C37-D28C-43B9-8348-02A7493C23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68CB39-6300-49EA-8355-95495A2086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160711-0555-4B2B-9480-0EC0AE2928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611E3E-A017-462F-8BCF-C62A456CEA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523A2C-A56C-49ED-AB33-19630237A5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90E6B0-0213-4529-9094-4B6C099978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CFA1CD-5DA9-4B8B-ACF3-A8D0B02E7F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CC5446-EBF9-421A-A64A-662D93D830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A407D-8F09-4453-A1A0-2C50F86E7445}"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58D77-BE3E-421D-8465-473500235CD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7BE2305-DAF6-4715-9A13-22665BC47E95}"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963992A-FA5A-40B3-923D-D4311572DBD1}"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B7F7E0-09DA-4028-BD65-5B07CBDAE4F7}"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7CE7AA6-3B34-4685-8D88-92EB67D88B8B}"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C878944-C989-4523-AD33-E582A00C8CC0}"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ADA1A24-25C3-4038-9DD9-0725830EDFF2}"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28AA09F-46A7-4EF3-9C56-93082E82C508}"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A542912-EA07-4290-B400-FF6854ED392C}"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EEDE795-6302-4662-9705-1F296C61D410}"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AD829F0-7234-4711-8D49-F8E1F615030C}"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E3E4A34-7F6C-49ED-A00A-FD3BA0110635}"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DD329E7-B3F2-4FBA-8DFE-B0526C84E379}"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550B81-50B2-41ED-AFA4-AAD38FAA40F1}"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2BAF48B-7199-45DE-89C1-11694EF3D9F8}"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AFB6424-AD61-483A-ABDE-C3C77A323AFE}"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EBB8F9F-9DA9-4AD5-A868-9AF697CF4A4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A2F26F1-A473-4ED0-B278-9A37B18ABD5F}"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4DCE3B1-C543-4F28-A46D-2A2935CD52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022F6CE0-A45E-424D-BDC4-9EC37607F097}"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B00616-6E99-4ED1-93C5-4C620B0E0DA8}"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8016916-3A97-4443-AADD-473BB038A3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FD23C9-F382-4BC0-A75D-7624486854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90639C8-FD20-4753-B915-BFFC477D3AC4}"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D832CE1-26A6-4D33-8D34-CC6124696E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3ECDA8C-7146-4CC4-A80E-BA6BAB878B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5435963-B773-4217-9E23-D139F30015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64F6CF7-66E4-4F35-81BB-1D8DC5DADF5C}"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9BA52D8-A2F2-4E6B-A1B2-D54E436524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5CBD759-F705-4C50-A8C4-65BFE993DD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2D397FD-3CC0-4A71-90E2-51454B2A0D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CE7A4C0-F6EC-4981-BD09-B637B743ABD5}"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8A25F1-107D-492E-BC60-04B7A17C0F8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14B5305-8449-484C-9D46-E9069621185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C0A6DB8-343A-4C7D-8133-B6B297564A53}"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746D5BC-F259-4FF6-B161-EECA6164F69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BE51AD3-9970-4FF0-A47E-152F79C5F5B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502B076-FF3E-4480-871E-3324D3E907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363AFF5-C189-4A54-A0A3-88EC9C5BF43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329EBCA-1529-4033-AE79-BC0A78183F6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7C2683A-F6C2-4811-93EA-F5DA83CAADC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3FEA1EA-29DD-4AF0-8A01-336E59B6150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983F662-D5FC-4ED8-953C-4C124B2931E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9D32366-4BA6-4BC1-8701-2B9DE219EAB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014B37-6446-4432-A1F2-BA3AD26F43B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BEB651C-1066-42AF-9D77-848070A3799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E0DB9E-E828-4924-9D10-D661C8361AF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2618310-88C9-4FC2-A35C-F9F7FD26A8A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D60717B-8242-49B7-9E0E-FB5664973EC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D1ED3B7-C921-4848-AF8F-24B694F202A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DC4856E-EB07-48CB-A466-A0FEA741550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91A40F-9E7B-454C-B9EA-67D565024EF1}"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E41429A-7589-436F-9B43-B635093F039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197C625-5B61-43C2-A788-C658DCE82A2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00E111A-E12D-4C88-83B0-93522F9BBCD1}"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B50F48B-4472-43F0-9AB2-B051BEA240C4}"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730CE7-782B-4BBD-9954-46A645527A4D}"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26FBF45-1DFA-4796-B2D1-7C0FABD72EE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F6C6645-9310-42DE-BD8A-49B59813F022}"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7ED5EC-30D6-4BB6-A4C6-A6A3B903447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5983192-B05B-49DC-B535-D8C5E2A4F33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5D1BB82-8E8C-4480-94B8-3278DE532D65}"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775C507-E2D8-4616-857C-7D32634EE794}"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CA78D7E-7030-48D0-A9A1-0F957CB9CC73}"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25650F9-C5FB-48F4-B6F5-CC204C1B35E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D60D033-8571-4B4D-8E5A-A3D260986EA1}"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856CAB-3854-40A4-AC73-BB527502339D}"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BD41825-46A6-40EC-AB41-84FF8082199E}"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7A23091-61B8-4154-81EF-2754288A087A}"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13BF276-5845-4BF1-9FC1-4106CDB98828}"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15745B-F12C-43B9-B839-822A89726D94}"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6674C8C-7280-41BC-BECD-AB390C90AD5A}"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DC089F1-22F3-4C58-8085-FB384CB0EB1F}"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03A145-962A-4F5D-8DD0-605BEB18A155}"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F3BBFAB-CE87-4B55-A215-4BAD4A8C814A}"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6EC490-77EE-4230-9AFD-E0B96D47C42A}"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D671717-BBE3-4AC9-BD56-4B02634F2476}"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1648951-22AC-459E-9C05-742456C5DC15}"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CAC3DC2-A6DE-4EA2-BC9A-264B4399B35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FEB615C-DD96-4DD8-86A7-887E9218B75C}"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A10B4D2-A50D-4F68-864E-9F42493C5CB1}"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BE01CBE-55F5-43BA-855E-C3F85C62BEDB}"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381655-2829-4341-B3B3-C076809FE293}"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D6189F1-6ACD-4516-A4CB-7604730DE07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17FB0A5-345D-4AEC-80F7-562DBB6A569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B5013E9-AE42-4B01-8A04-B88D20C6D8CE}"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2345DA6-0F7D-4ABA-8042-C620C2A92F9A}"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8A53BAC-63A8-4E79-800E-DD25474A7242}"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22E4268-2576-423F-8775-F4CBADE169B7}"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DF4A16D-29CF-4B49-8642-C873BCB2F5BA}"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EFE01EA-E340-4C0B-987D-5578DFC00301}"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41EF7FC-1EBD-436D-BACE-E4D73D906BC1}"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2E3BD33-9F9B-4B08-9549-D00FE71BB0A6}"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EC34E6B-29E1-4485-B2A7-CDB7CD58348B}"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B904393-3B87-4666-BA96-A03AB0A31775}"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75C5C909-ACB9-4631-B0BD-A9AA2B1CEA1E}"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A17E74E-7DC0-41EA-B95C-41633A6F5CB7}"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E41028D-9616-4212-AEFC-F02B3A3980B8}"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6955AC4-F4E1-4BDE-BFF6-7184B9897982}"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67EDBE2-F71C-4578-B185-6C80B9FA2F68}"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52AB25-E533-4A28-BB5B-0A60241226DC}"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799822-D51C-4D96-AEF5-6099CB675A2A}"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707515B-DADB-413E-BD44-D88A845043D1}"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519BDB2-3E16-432A-8AC6-35818FA46C01}"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0EFF26F-FE8C-422B-A39A-185711DC95B4}"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5BA476-FE0C-4A09-A1E1-1A5868EB6ABE}"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C73EF85-730D-4CE8-80C4-83B6CDFEBC3E}"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6422F100-D4F3-4CD3-8D4D-8996DD967FC6}"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BDD5472-F7FA-46AF-8337-293CFC9EBA52}"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C132797-DBD9-43EF-ADA3-89530AC5C363}"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06D72A3-50DA-44FF-AC38-24353782AF52}"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314A2C3-2D35-4355-B90E-3211FADD9458}"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30F0E19-8796-4DEA-B345-30BB6ED96E3E}"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