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902746"/>
        <c:axId val="86315517"/>
      </c:barChart>
      <c:catAx>
        <c:axId val="139027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15517"/>
        <c:crosses val="autoZero"/>
        <c:auto val="1"/>
        <c:lblAlgn val="ctr"/>
        <c:lblOffset val="100"/>
        <c:noMultiLvlLbl val="0"/>
      </c:catAx>
      <c:valAx>
        <c:axId val="86315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027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438-7E36-4845-9F48-22CD5CB7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0A4-7DEB-4AE4-8BBF-14174887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1EDC-124F-4885-ADF1-1B62C1A3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2314-FFC1-48A7-8D18-BB35C24B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AC5-2C8A-48F2-BEDA-34A1024E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C8F-F9D1-4018-B316-79921652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8B1-3864-4C9A-90B3-A9DE46A0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197-621E-44FC-A077-4A3643B1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1658-6A23-4274-BE9C-3C81FAF4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9136-F7E9-4455-968A-BC513AA0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0452-E156-4FA6-AC98-F2D21859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FD9-9D4F-4676-BFBA-79994577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7266D-1462-4EC4-98BD-B1BC6D8BA4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