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303234"/>
        <c:axId val="43008342"/>
      </c:barChart>
      <c:catAx>
        <c:axId val="92303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008342"/>
        <c:crosses val="autoZero"/>
        <c:auto val="1"/>
        <c:lblAlgn val="ctr"/>
        <c:lblOffset val="100"/>
        <c:noMultiLvlLbl val="0"/>
      </c:catAx>
      <c:valAx>
        <c:axId val="430083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303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CC4B-50BE-4E0D-B1FD-89E501099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8AC-BD43-4D52-87AC-8CC8EE3B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B516-EBBD-4CA1-963D-2C7A8F1F6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21F5-B255-4F19-819F-31FE483B7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649B-873F-415A-B48A-63500D0F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66E-CDBA-4CA6-B2F9-CA0A68CC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8679-F9BD-4948-AB0A-ADB398A97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108F-799F-4EBE-AA1E-6D6CEFA67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1158-DB86-44D5-8E5D-D096B44F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75D7-9D2E-44CC-B27C-D48DAE74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B9A7-C72D-48D8-900D-CB64BCA2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385E-0364-4A91-A6FF-68A95BCD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DE1CE-9C71-4FC5-B00E-3FC34D56C3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