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71923"/>
        <c:axId val="23213484"/>
      </c:barChart>
      <c:catAx>
        <c:axId val="778719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13484"/>
        <c:crosses val="autoZero"/>
        <c:auto val="1"/>
        <c:lblAlgn val="ctr"/>
        <c:lblOffset val="100"/>
        <c:noMultiLvlLbl val="0"/>
      </c:catAx>
      <c:valAx>
        <c:axId val="23213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719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BA28-53CE-44E5-82CC-F106C29A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7FD8-6CEC-44B1-A3C6-9F744A35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509-8C9A-4DD7-9621-8AFC0064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402-464E-471D-A6EF-7294FEC4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19B-1CCB-4DF8-B396-DE830C3F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82B-B8F2-4310-87D3-011321C0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564-FCEC-41B8-8279-BF530669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252C-9B08-41C5-AA6F-AEB4A81F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2A3-4CD0-4580-AB6C-9E16B1DD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6007-81C9-4170-AEBD-037ACD9E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2C6-756D-4D69-B141-F0CD0E43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E8E-BF26-46D1-A88D-DE077130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40966-EBDD-41F8-902D-4C7F9C5EA8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