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28626"/>
        <c:axId val="42692366"/>
      </c:barChart>
      <c:catAx>
        <c:axId val="97628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2366"/>
        <c:crosses val="autoZero"/>
        <c:auto val="1"/>
        <c:lblAlgn val="ctr"/>
        <c:lblOffset val="100"/>
        <c:noMultiLvlLbl val="0"/>
      </c:catAx>
      <c:valAx>
        <c:axId val="42692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8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B2F-83AA-47C3-9523-9D14676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BC4-3CEC-4EF9-854F-DABB216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027-34EB-4C19-AF91-0F2CFB7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D36-BDB4-4C2E-B52E-3765F38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AFD-0403-4CFC-B29D-C5B3C8EF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DF6-8834-47D6-9086-20A6540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4AB-4D86-4AFB-8841-FC5C01DF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373-3B6C-4321-8B9A-3319918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218-850A-4D69-965C-5275482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092-A0F1-4D5E-9B2D-ECA83CB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886-1DB3-4E2E-AF76-3A509D2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180-9426-48D9-BCB5-DF880218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F89C5-6F1B-4974-B72D-373ACDE8F5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