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FDDA-89DF-4229-9E66-5DEA3E17A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931A-C797-44DC-8D76-D4CB77FB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32F91C-6BBA-4CF3-8102-0EFF2640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29E9F2-557D-464A-AC0E-C9F2D7E5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6F2F2C-BBDA-49F9-B02A-2DC6C779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987FF6-E740-4E10-B17A-CC6F3217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5369CC-DB95-42EA-ABDD-1A7E7D4B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424B4-C14D-46B2-BC0E-9055F923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A0F4B9-7D1A-4ED7-B83F-89B8A06C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E6C237-C5CC-4659-9002-7D7D97C85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BC0F18-2D01-4366-981E-966F082AD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AB7EB9-EAF8-4887-A2F8-28EC0622B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196C-1AAE-4B61-B021-19675A52C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7638F1-BC5D-4E0B-9B5A-5B369C7D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51D333-D709-4967-B418-D8616FF5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D95EBC-3EA4-42C3-B195-6DF7C7A6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ACE1E5-6680-4188-863C-611B3C65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F32C32-040E-411C-9B80-ABC74AAF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D1DBCD-0016-4427-9862-7DF7CC63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2CADD9-C86F-427E-BC1E-0E12AD0D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459748-5898-49B2-A1D5-4C4C3CB2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2DFAEB-1D9E-4A01-81AA-D3711D04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B2F72A-33A2-47B5-A331-8233E358D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6AD0-A458-44BD-8296-49B2751A6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4E58EF-DC06-46F2-8C47-43D8CFE64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1E863-4C15-48FC-B44E-D9D32B564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02BA60-48C5-4572-BFF5-C9F4B735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CBA11-EC23-433C-AB37-5D0D75ED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B40CF-B143-4E9A-AD77-C55A74E7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6CBF0-5823-4420-AEDA-8D36F8AA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0C9D4-2861-4304-A2EA-3504194E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62D229-4F7E-4DED-A4A9-B77BBB37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A106D1-69D5-4232-B92F-F6ECA239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B9808C-2010-4F3A-94FF-4A4B11A9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CA63-9F65-47BE-87D3-B39C10617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9E5ED-A158-41D1-8149-5939037D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23458-6F6C-48D9-B7E6-5A57EBE55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810D2-0C79-4312-8104-D22D90CC8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6D4296-F129-420F-8F68-F49669908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8F697B-CCD7-4EDE-9BB9-36188064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84F4FE-D6E1-4D70-9D7F-18236CDF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C34F9B-231C-498B-8CDD-ED675E94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5B0F4F-9F47-44A9-872E-EEDD0352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AB6262-2FA1-4D3F-B0AE-861ABA0F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F1A978-99C2-4DF6-A2CD-A66B14CC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9954E-AA6E-4229-8DD4-C47C4EC6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A5BDAE-CF48-49BF-BC4C-26B1C5EE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FA0F8B-8B0A-4060-8119-00350C24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9306C5-D14F-425B-8772-E0760CAC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5A4F76-52B9-406F-8B0D-A7A7F2045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A5590C-C969-41EC-B7CD-BC2C5E210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C814-1380-4B49-9573-3B88A02D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C4E2-B6E5-4296-80B8-3EFD9E73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D5E15-688D-453D-BAC8-764B5AA6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4666-F80D-4BA0-A9AB-F3ED49E7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5944-4EC3-4963-8C43-578E4566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BE50-BAE1-4821-ACE7-59D60D2C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8C40-13AE-4622-AD2C-FF978DB5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FF38-3437-45CC-9384-ABC8D7E3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AAFD-F69F-4C1D-BD0F-7B67C182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D82A-C47E-4CA5-8B74-C2FA4FFFD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00C3-36D0-4D1A-9162-693211071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3D821-47D4-431E-9985-10213CFAF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95A1B-5F6C-4937-9307-5FAD4D3C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D8148-DF0F-4D97-9840-1B115A77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2FFF2-2ABF-4347-9425-06673732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7E237-6CF5-40C1-BD97-63C88122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A784-B643-4905-BA4A-A59E3BF0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AF235-C18A-45D9-BE73-000D1ED3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83657-5EEC-4054-9FF4-7D31A3F1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BD466-A765-408E-A286-D262347C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18C81-E6E8-4A29-A3DF-FA9D09D4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DBE1D-2F59-4924-98F9-812A5992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A95BF-C881-49A0-9802-960155FFC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06E19-E472-4CA9-B43C-4C3B28130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BED50-D296-46D6-BCB2-4E04309C0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11609-4BA0-41EF-A038-11648D4A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54AA3-A420-47BE-A3EB-8B33ACCB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F209-5962-4A1E-918F-6DE971C2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59D47-9F4B-4DEF-A6B8-C1F8680C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2534A-F289-4F47-A5E5-C816528D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29D20-2263-41C6-969C-6C5E4615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08F7A-9E93-423C-8F44-0DAE24D6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EDC44-94AA-4CD9-8075-407DE4C2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8B0EC-006A-4E49-AF68-F8C3E7A7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EC928-A754-4601-A8AF-9F4D2111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93285-D305-4EE0-9DC1-361494000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C734C-F4F4-4993-B3A5-D1C52CC3E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16E133-5D5F-4963-87DF-D5FD338A1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019D-DDC8-4A0F-AAA2-9E3B01CE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130E4C-CC9A-4CD9-8605-571AA539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D36296-0109-419B-9424-CE32A6EE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16C004-3697-4E74-A7C4-B6C99A4B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BA4B3C-E25B-4829-A04D-2BA3934A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DC8056-D1D2-4FF9-BE96-669B2FC7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5598EA-579B-47B0-95C4-5689D528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E20D81-D802-4D05-800F-9BCC7E9D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FCE034-A750-414A-B8F6-F62782BB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335FDB-47B7-47FF-AFB2-3DAE8649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E49B98-0C23-41E0-B410-A277441E1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A7C6-5F1C-4CEA-BF3E-FF99ECB0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232655-91D4-4B40-B0C3-71AA5DC7B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FDE8C-BB65-4880-B464-06DED2663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1F854-38B8-48DF-A46E-998A6739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0E555-9939-4E6D-A9C5-877B00CC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58805-FD44-4946-A01B-DEE1783C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CB81A-D96B-4C3E-B693-4A2CBE84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C83B5-2F0F-4C3D-A83B-D406DF12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A6FA6-8177-42B1-8F67-C3040A00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B8B97-2E30-4E79-B082-2F5D23BD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00EA1-8E00-4B27-BC82-B9C24AE4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B792-730A-4796-9773-97BE29F0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98C67-37B2-440D-8AEE-06D2A091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EF3E3-31CB-4C14-92B3-88E9576C4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EF1E8-D23C-48C5-8D4C-A7F0C3803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A8711-DF7B-4303-A7DC-3C17CE7C3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BB581-F182-4FBE-B1E7-AE36A662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B743C-FCF1-492C-BC02-2688B57E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671BB-D901-41FA-9DCC-BD5D3035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47CBC-1FC7-4CD7-859D-BC57F54D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8C9C6-126F-420F-A040-3B12FE9D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4CC79-EF3C-4C80-B361-30837B69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08E0-ADB1-4DEF-8F17-D600FFF0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2B2C9-7DFB-420F-B26D-CD1A57A0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A6042-0C0C-4BE8-B336-5492B269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6013C-82B2-41E2-A2EA-018C6B5C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4AFC1-C7E9-43B1-85BA-7445A2498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6578E-B8AC-42A6-8802-21660A40E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E34D7-03F4-4CCC-818E-2B4530AFF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55360-4EEB-487C-9D3E-69F4C4A8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B7A05-6D23-423A-8B5F-FFF27C34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392B1-890D-4F19-8E6A-B48C484E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BD986-E7C2-43E9-858F-ED9DA2C4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39B4-FB52-4639-8165-8AB0EFA2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3E7BC-73E2-4F4C-BD59-8772AD88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7FC07-EEDE-4C95-8453-5CCD4C8E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EE70C-D36E-422C-BE79-31622BE8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FAA4D-15F6-4741-9FC5-AEA2FD18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12EBC-6330-4BEB-AABA-89BE26E0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F08D6-1D53-42CC-917F-85B455120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9BD0B-3AB1-4A80-A4C3-BC09CC486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626368-11B1-49C5-AD1D-A87E705E9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DBDF77-9100-4390-96FE-ECAE28F0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E0C9B4-E981-4983-A9E5-D0E8E735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8B6B-74DF-4624-875D-A865EBB93B4C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533B-F2D2-451B-872E-58525781E17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14D1-1773-40FE-BCC6-F48C393E4D8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2246-53C7-4C0C-84C1-64BA56382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6B56-3A08-4549-A3E7-8CB55B733353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4711-B947-4694-99E0-2EAB0CA70AE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1857-CBAC-4039-B225-B2D72CCC9FA0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9699-780D-4A98-8104-47BE7C71176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BEBE-A52D-4A39-82CB-8E09BCAC464F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9A8F-C58D-4CFC-A4AF-108A3370DAC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60BE-C19E-435B-9DAC-3F7106CC08D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E6BD-045B-4D51-AE58-B780941EC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5E79-5E3D-4DFF-A68A-FFCD7DCF295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FC3A-9D04-4D90-AABE-F0187D86B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00CA-B36C-44BE-8934-14A61CB0235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A3D9-7126-4E48-941E-B1C8DD0A7C5C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FCCF-B766-4406-AAF3-9D5B965216DC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3018-A1F3-4C83-8A32-CEB4D9DCE5E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1C7D-59C5-43AC-B7B2-D9FDAA4BF049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8A75-9DFA-4D7C-AB4C-C537BAC8DE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5515-7F4B-4520-ADBF-B830DF78065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C4B4-16C0-4D52-8FD3-AF43462A855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7702-46B4-4553-86A3-EB542285A1A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955A-61C2-4B44-908B-72FB55E80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4A02-EE29-42C6-B7E7-42BE8BCB64B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1F4477-9B1B-4DA8-B971-1EB426610D56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4296E-3D3E-42C6-AC8E-8C4D4CEE6F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34B8E455-E94B-455D-B737-870B98BAB90F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5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6EF59-09F2-495F-8438-CF202218371E}" type="slidenum">
              <a:t>3</a:t>
            </a:fld>
          </a:p>
        </p:txBody>
      </p:sp>
    </p:spTree>
  </p:cSld>
  <p:transition>
    <p:comb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1D332D-93EF-491A-8A37-A7096F08833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33D7CCB9-4BA7-4FAD-874C-E5C9AC4EAD35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6A3876-0CCE-4F53-84DA-326264EFE5C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38087B9E-9555-427B-81ED-6EE2B19B5A6C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0"/>
                            </p:stCondLst>
                            <p:childTnLst>
                              <p:par>
                                <p:cTn id="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000"/>
                            </p:stCondLst>
                            <p:childTnLst>
                              <p:par>
                                <p:cTn id="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800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9000"/>
                            </p:stCondLst>
                            <p:childTnLst>
                              <p:par>
                                <p:cTn id="3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E6B06F-B131-4E03-A758-A2F2E352581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273422C3-0EE6-47BA-8DE8-49A95A6BCFFE}" type="datetime1">
              <a:rPr lang="en-US"/>
              <a:t>07/29/26</a:t>
            </a:fld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