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84585"/>
        <c:axId val="46116099"/>
      </c:barChart>
      <c:catAx>
        <c:axId val="81784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16099"/>
        <c:crosses val="autoZero"/>
        <c:auto val="1"/>
        <c:lblAlgn val="ctr"/>
        <c:lblOffset val="100"/>
        <c:noMultiLvlLbl val="0"/>
      </c:catAx>
      <c:valAx>
        <c:axId val="46116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84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D6F-E72F-4E6A-A1EF-67E529C9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0B0-5604-4F32-9DC5-7D9EA0A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B63-21C0-4398-9BD1-F9E75923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1AA-1613-4AAF-A18B-99F5F94D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F7A-C64D-447B-BB4C-E34FA35A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939-373C-498B-A7F3-47C2BA08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A5C-8373-4C5B-8700-4090CFD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559-6844-407F-85B2-A58F6C0C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26E-8836-4FEC-8AAA-C0EFA9CC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5E1-EA0D-44D6-80E6-64BA2769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CE3-2AA7-4339-B12B-68DF4C83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5C5-8EF4-4239-BFC3-83360883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08A4B-C638-4A3D-96A2-57B0A2FFF7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