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1D108-C1A3-49D8-BE1B-5C87F567B9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16187-1079-4DDC-8367-B6599B1470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703C-2DBD-4781-B675-2DA13C1461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4A5346-E943-4C51-8CA0-E45CE2F96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78647-44FC-453D-A9E0-124D07C75F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98F54-A59B-461F-B382-F4BB047B25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6833D-0FC0-4B38-853C-A82D8D2A6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D28AD-9C67-4E22-9DED-FDF4BC0A0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31022-44B2-40A9-AB45-6A8AA316E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64EAA-0F74-4BBD-8210-82E890F55E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A48023-4654-4992-952B-DA3ACB8A4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8DBB3-E60A-4ECF-A3DD-377D62EB22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等线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等线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等线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等线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等线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FB41DC-3526-4740-9F5D-9D8F48F15782}" type="slidenum">
              <a:rPr b="0" lang="zh-CN" sz="1200" spc="-1" strike="noStrike">
                <a:solidFill>
                  <a:srgbClr val="898989"/>
                </a:solidFill>
                <a:latin typeface="等线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0000"/>
                </a:solidFill>
                <a:latin typeface="等线 Light"/>
              </a:rPr>
              <a:t>zZZZZZZ</a:t>
            </a:r>
            <a:endParaRPr b="0" lang="en-US" sz="6000" spc="-1" strike="noStrike">
              <a:solidFill>
                <a:srgbClr val="000000"/>
              </a:solidFill>
              <a:latin typeface="等线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2400" spc="-1" strike="noStrike">
              <a:solidFill>
                <a:srgbClr val="000000"/>
              </a:solidFill>
              <a:latin typeface="等线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8-08-17T05:37:26Z</dcterms:created>
  <dc:creator>Microsoft Office User</dc:creator>
  <dc:description/>
  <dc:language>en-US</dc:language>
  <cp:lastModifiedBy>Microsoft Office User</cp:lastModifiedBy>
  <dcterms:modified xsi:type="dcterms:W3CDTF">2018-08-17T05:47:32Z</dcterms:modified>
  <cp:revision>2</cp:revision>
  <dc:subject/>
  <dc:title>PowerPoint 演示文稿</dc:title>
</cp:coreProperties>
</file>