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1244C-D148-4723-B61E-9D896EFBC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E2BCA-584A-4DFA-A492-7ED281519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F8E1B-1C22-4089-9486-63165FDB7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B223A-3CE4-4F4B-9B65-05B42F352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B9EA9-A6E2-4A69-9159-819A6D099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B02C2-BDF3-431B-80DC-237BC569A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221F9-B453-47C7-BD81-0A31E6678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422F2-C099-4F77-9EE8-B4AD1B577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E6A33-ED38-4B70-8E1E-09B95C149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A8136-0BDD-44A9-9AA9-1B8896935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2DF1D-E677-4E81-937C-D2D5BAF62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5CB00-CC6C-4199-A1BE-C8F6CDB81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67B15-6490-44A4-A961-6BA6FFDE6A33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3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5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7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9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1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3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9"/>
              <a:gd name="adj2" fmla="val 49994"/>
              <a:gd name="adj3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5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4"/>
              <a:gd name="adj2" fmla="val 49994"/>
              <a:gd name="adj3" fmla="val 499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7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50000"/>
              <a:gd name="adj2" fmla="val 49994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00:13Z</dcterms:created>
  <dc:creator>tb121644</dc:creator>
  <dc:description/>
  <dc:language>en-US</dc:language>
  <cp:lastModifiedBy>tb121644</cp:lastModifiedBy>
  <dcterms:modified xsi:type="dcterms:W3CDTF">2005-05-25T09:04:25Z</dcterms:modified>
  <cp:revision>2</cp:revision>
  <dc:subject/>
  <dc:title>Slide 1</dc:title>
</cp:coreProperties>
</file>