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4F34C-7E82-4413-A142-36DEEC531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E9D27-A227-46A7-9644-C39A5E0F8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FA6AD-4663-4CA6-8E98-E63DF7255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A2246-026F-4043-9AD3-A40D65C73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6A576-E2FA-46F0-9781-676EE8574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A020B-2288-40A6-A10E-05F46DFD9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29111-E26A-4E52-8477-F0345D97A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9E325-A931-46A8-82BD-7BE11BEC8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9EFD5-A598-430A-956B-C5B0434B1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5F624-992B-4526-AC25-9F8C1903A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6434D-5377-4C7F-BA1B-37593D152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5D57F-1F3A-4135-A5C9-14F0E2FB8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441DA-65A4-4CBA-B77F-A37638D5F9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7120" y="1400040"/>
          <a:ext cx="6087960" cy="405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7120" y="1400040"/>
                    <a:ext cx="608796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4:23Z</dcterms:created>
  <dc:creator>Oliver Craemer</dc:creator>
  <dc:description/>
  <dc:language>en-US</dc:language>
  <cp:lastModifiedBy>Oliver Craemer</cp:lastModifiedBy>
  <dcterms:modified xsi:type="dcterms:W3CDTF">2005-01-06T09:24:29Z</dcterms:modified>
  <cp:revision>1</cp:revision>
  <dc:subject/>
  <dc:title>Slide 1</dc:title>
</cp:coreProperties>
</file>