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ED3-6725-46A8-8C66-CB779AED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FE8-A108-4D3A-92EC-D4530E65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D92-1995-4B92-A42D-6C31A118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FAA-47E0-4B47-B7D9-35C9F19A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8E54E-DC96-41AE-A6C1-78EFD14B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9EE82-6C7E-4C8A-83F5-1E424D28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821DA-933A-48C1-BDDF-9D552DCE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153BB-1FBF-4D1D-8134-215C34F1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48696-5D86-44AB-8281-F494AB75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BC8C0-4DF2-4E5E-B58B-ADDB9F0E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8957C-0C67-4F6C-97D1-BB8E6E61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1F2-C09C-4E77-BD92-774DCEC2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70BA3-05C1-4CE3-AFE4-705AADE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154E9-8280-40A3-86B6-130D111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0D9D8-5DCE-49B3-B111-66F1CA49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B49E8-90C1-457F-A0EA-701499B1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1C609-8760-4D4F-9F22-EB8D399D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A38-90E5-48D8-B9E0-C32604ED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A20-5971-4805-9B36-0297DA6C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001-1D75-475D-91D9-39DD5A9B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542-E7ED-44D1-BB6E-4065453A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BC9-9595-4261-A2BF-A647168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D2F-4FF9-4821-9232-BD10D988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E14-8962-40B2-AC03-949D01CD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595-94C6-4431-921D-DCD0EFF076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9AB6-AAC2-44BB-B5D0-94C8CC696D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60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br>
              <a:rPr sz="6000"/>
            </a:br>
            <a:r>
              <a:rPr b="1" lang="de-CH" sz="2000" spc="-1" strike="noStrike">
                <a:solidFill>
                  <a:srgbClr val="ffffff"/>
                </a:solidFill>
                <a:latin typeface="Tahoma"/>
              </a:rPr>
              <a:t>by atlant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powerpoint by robocop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ffffff"/>
                </a:solidFill>
                <a:latin typeface="Tahoma"/>
              </a:rPr>
              <a:t>...; music by maliktrey ;..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1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102120" y="1916280"/>
            <a:ext cx="29098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27612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ahoma"/>
              </a:rPr>
              <a:t>0r w3 c@11 th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ahoma"/>
              </a:rPr>
              <a:t>th3y w1ll @rr3st y0u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186228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600"/>
                            </p:stCondLst>
                            <p:childTnLst>
                              <p:par>
                                <p:cTn id="33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2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92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192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192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00"/>
                            </p:stCondLst>
                            <p:childTnLst>
                              <p:par>
                                <p:cTn id="3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00"/>
                            </p:stCondLst>
                            <p:childTnLst>
                              <p:par>
                                <p:cTn id="35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2489040" cy="594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482920" cy="590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48000" y="476280"/>
            <a:ext cx="2376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j@1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1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funn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5400" spc="-1" strike="noStrike">
                <a:solidFill>
                  <a:srgbClr val="990033"/>
                </a:solidFill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9200"/>
                            </p:stCondLst>
                            <p:childTnLst>
                              <p:par>
                                <p:cTn id="41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41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250" autoRev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200"/>
                            </p:stCondLst>
                            <p:childTnLst>
                              <p:par>
                                <p:cTn id="42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250" autoRev="1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200"/>
                            </p:stCondLst>
                            <p:childTnLst>
                              <p:par>
                                <p:cTn id="425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429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200"/>
                            </p:stCondLst>
                            <p:childTnLst>
                              <p:par>
                                <p:cTn id="433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700"/>
                            </p:stCondLst>
                            <p:childTnLst>
                              <p:par>
                                <p:cTn id="437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6200"/>
                            </p:stCondLst>
                            <p:childTnLst>
                              <p:par>
                                <p:cTn id="441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700"/>
                            </p:stCondLst>
                            <p:childTnLst>
                              <p:par>
                                <p:cTn id="445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200"/>
                            </p:stCondLst>
                            <p:childTnLst>
                              <p:par>
                                <p:cTn id="44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Effect filter="wheel(8)" transition="out">
                                      <p:cBhvr additive="repl">
                                        <p:cTn id="4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7750"/>
                            </p:stCondLst>
                            <p:childTnLst>
                              <p:par>
                                <p:cTn id="453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750"/>
                            </p:stCondLst>
                            <p:childTnLst>
                              <p:par>
                                <p:cTn id="459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0w3rp0Int ru1@z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35280" y="4941360"/>
            <a:ext cx="532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another nice atlantis release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presented at Buenzli 14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greetings to all our friends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ffff"/>
                </a:solidFill>
                <a:latin typeface="Tahoma"/>
              </a:rPr>
              <a:t>...; +++ no carrier ;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89323 -0.82084 E">
                                      <p:cBhvr>
                                        <p:cTn id="47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8" nodeType="afterEffect" fill="hold" presetClass="emph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88212 0.77408 E">
                                      <p:cBhvr>
                                        <p:cTn id="48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700"/>
                            </p:stCondLst>
                            <p:childTnLst>
                              <p:par>
                                <p:cTn id="4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6296E-006 L -1.45556 -0.70717 E">
                                      <p:cBhvr>
                                        <p:cTn id="49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700"/>
                            </p:stCondLst>
                            <p:childTnLst>
                              <p:par>
                                <p:cTn id="49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200"/>
                            </p:stCondLst>
                            <p:childTnLst>
                              <p:par>
                                <p:cTn id="4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0.47899 0.72801 E">
                                      <p:cBhvr>
                                        <p:cTn id="498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200"/>
                            </p:stCondLst>
                            <p:childTnLst>
                              <p:par>
                                <p:cTn id="5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549440"/>
            <a:ext cx="878544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96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e-CH" sz="9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de-CH" sz="96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1" lang="de-CH" sz="88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1" lang="de-CH" sz="88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1" lang="de-CH" sz="88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1" nodeType="afterEffect" fill="hold" presetClass="exit" presetID="5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33d tr0ub13z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1441440"/>
            <a:ext cx="1003320" cy="1987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12000" y="1441440"/>
            <a:ext cx="1090800" cy="1987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1245960" cy="1989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812000" y="4292640"/>
            <a:ext cx="1094040" cy="1989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181080" y="-1900080"/>
            <a:ext cx="9721800" cy="1072800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93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-114300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path" presetID="3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C 0.03143 0.06042 0.07778 0.12292 0.11563 0.14792 C 0.17223 0.18842 0.22657 0.20393 0.23733 0.18356 C 0.24584 0.16342 0.20764 0.11319 0.15122 0.07268 C 0.11337 0.04745 0.04427 0.03009 -0.01649 0.02754 C -0.07534 0.03009 -0.1467 0.04745 -0.18454 0.07268 C -0.24097 0.11319 -0.27882 0.16342 -0.2684 0.18356 C -0.25781 0.20393 -0.20347 0.18842 -0.14895 0.14792 C -0.11111 0.12292 -0.06302 0.06042 -0.03333 1.48148E-006 C -0.00208 -0.06296 0.01893 -0.14607 0.01893 -0.19884 C 0.01893 -0.27917 0.00452 -0.34144 -0.01649 -0.34144 C -0.03576 -0.34144 -0.05225 -0.27917 -0.05225 -0.19884 C -0.05225 -0.14607 -0.02934 -0.06296 -3.61111E-006 1.48148E-006 Z">
                                      <p:cBhvr>
                                        <p:cTn id="12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00"/>
                            </p:stCondLst>
                            <p:childTnLst>
                              <p:par>
                                <p:cTn id="129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6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81080" y="-1827360"/>
            <a:ext cx="9650520" cy="106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-1395360"/>
            <a:ext cx="6983640" cy="914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ffffff"/>
                </a:solidFill>
                <a:latin typeface="Tahoma"/>
              </a:rPr>
              <a:t>0nc3 m0r3, gr00vy b@by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path" presetID="45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521 -1.65208 L -0.31042 0.122 C -0.30156 0.122 -0.29323 -0.07662 -0.2816 -0.07986 C -0.26667 -0.03842 -0.23768 0.33704 -0.22049 0.37014 C -0.20365 0.37014 -0.19219 0.11852 -0.17795 0.11852 C -0.15868 0.11852 -0.2434 -0.06134 -0.2066 -0.06134 L -0.07674 -0.08032 L -0.11771 0.23866 L -0.01458 0.122 L 0.04444 0.29051 L 0.08107 0.12084 C 0.1118 0.11713 0.07934 -0.03101 0.11007 -0.03726 C 0.12118 -0.03819 0.13472 0.15301 0.15156 0.15533 C 0.1684 0.15811 0.19496 -0.01435 0.20035 -0.01319 C 0.20937 -0.0081 0.21562 0.15811 0.22656 0.16088 L 0.27396 0.08102 L 0.95312 0.38125 E">
                                      <p:cBhvr>
                                        <p:cTn id="16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9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0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0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93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91960"/>
            <a:ext cx="8229600" cy="61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0w3rp0Int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ru1@z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2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209680" cy="575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3204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916360" y="504720"/>
            <a:ext cx="2879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D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N0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133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Pr0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Tahoma"/>
              </a:rPr>
              <a:t>! !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85" nodeType="afterEffect" fill="hold" presetClass="exit" presetID="53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17:55Z</dcterms:created>
  <dc:creator>powerpoint : robocop / music: maliktrey</dc:creator>
  <dc:description>;-)</dc:description>
  <dc:language>en-US</dc:language>
  <cp:lastModifiedBy>RBC</cp:lastModifiedBy>
  <dcterms:modified xsi:type="dcterms:W3CDTF">2005-08-16T04:12:34Z</dcterms:modified>
  <cp:revision>47</cp:revision>
  <dc:subject>buenzli powerpoint fun compo</dc:subject>
  <dc:title>atl-007-p0w3rp0Int ru1@z</dc:title>
</cp:coreProperties>
</file>