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3A71-89B6-4C55-92E4-6E4FAB539CC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792D-98AF-40AE-AE6C-503620F9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7633-6074-4B3D-8126-27E2AE6C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4B31-5088-40C2-9F1A-C5FA9069A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E296-343A-4133-A0AB-5CB83B334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B4F7-857E-4023-A9D7-E70EB418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5183-30F1-48CF-8D36-A82D26D7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4261-3AC1-4221-AC55-4C94DF1E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C3D9-F8DC-4E37-B9AF-104002C9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11FF-C1ED-4CB3-9F4C-7FFB7D8D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DFAD-1826-4AB9-84A5-1D3F108A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D151-9EB7-478C-B27F-6FA9950D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15EF-B1D1-4FE9-9AAC-E72B6472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01C9-40AC-4AC4-BA70-64EC295B4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77720" y="571680"/>
          <a:ext cx="8190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571680"/>
                    <a:ext cx="8190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68360" y="576360"/>
          <a:ext cx="8209080" cy="57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6360"/>
                    <a:ext cx="820908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4:58:50Z</dcterms:created>
  <dc:creator>Ing. Industrial</dc:creator>
  <dc:description/>
  <dc:language>en-US</dc:language>
  <cp:lastModifiedBy>Ing. Industrial</cp:lastModifiedBy>
  <dcterms:modified xsi:type="dcterms:W3CDTF">2003-12-01T15:37:20Z</dcterms:modified>
  <cp:revision>2</cp:revision>
  <dc:subject/>
  <dc:title>Presentación de PowerPoint</dc:title>
</cp:coreProperties>
</file>