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4AC391-C0EC-4D81-8396-6E82B0D4BB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4AD033-5B91-45A6-8D57-BB6C24764A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1F62D4-0A85-4A76-BF70-4DA0C72E01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BC57EA-9E81-4990-94A3-DC2C5E98E0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A9C1741-BC61-435C-9349-5544220F6E9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7C477E-C78C-4C55-8C6F-C57DAACEAF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653FD4-4326-4111-A039-ED2EE7D012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A59B6C-3CA7-4FE6-9349-5B0B49D5BD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954906-585B-4FB4-9F44-BAD0C97788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452BA4-0AA7-4F86-AE15-00A93399E6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6E0D74-B09C-4E75-99D7-C76B432305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B72232-B302-44B8-86C8-BF2D65FF78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8737B8-A672-447F-A226-264ED37D2F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72C579-0338-4FA9-91F4-FE0923BE21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6C4213-F00A-43AA-B231-F0865DB38D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31A1A0C-973E-4B98-9043-0C4CD2958F6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94D7839-BA5F-45E2-A89C-AF66573B6E1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CB282B-10EA-4689-99F9-077C9769A1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262195-6DD2-461F-8AB2-5857B828BE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354DD0-1697-4DFF-97DF-41BEFA71FF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A68087-B6B2-46BD-A80B-59057F4F83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C0B931-7C82-4E90-A0C0-4AA61523C4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2F7322-A3B5-4555-A33B-CFCE5DA231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D0448F-1175-4027-8961-D9C52FB03C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9B9900-4707-438A-9CE7-97249410CE8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A4B945-EA4F-4E3C-9E90-72326254E09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A60B2ED-7F56-4583-B6DF-E1EE3A05379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A36A32D-A2AD-4418-8730-F0DE73C316C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2B3A34-6C62-4799-BBD6-6BC49D9AF7EB}"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64A38F-45F8-4F92-A4E2-520211F678A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A44C1A-26EB-45F9-BE0F-75D3A905FCF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8036DA-F106-4A52-80DC-A9E4089F78D5}"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42718A-319A-4293-B786-912AC8B5B208}"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1F9E95-0AA2-402B-A97D-35BFD527A399}"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4443FC-3DE5-40EF-9452-156EF74B88F4}"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1EF23E-0EC1-4F9C-A0F0-74931F99625E}"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0D9070-A319-4205-868B-BFC068C047CE}"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B93AF6-B5C7-4E09-8CEB-62305D6ECABC}"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31A7CA-1B7D-42E6-A485-C8A5B119E110}"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838AC8-B59D-46C9-83F8-4963E01BE6A4}"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923835-81E1-4560-92C6-954386CE1D10}"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80BFEC-37F6-4614-8BD3-DB8FCCC6D44D}"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2B644D-2E15-480D-82B6-7EC5493279E7}"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3D62FB-F13F-4D2D-B9E4-3D9550409EBB}"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60AE00-8135-4C84-9B8F-C54F23755A32}"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C2E0FF-F7B2-4181-A5A5-A5E049AB7B55}"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29DF5F-2FE9-43E3-8CC5-162C7C577325}"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3D0028-478F-40DE-A05B-42AC1EBEF90B}"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2DE8EC-206F-488E-9EC6-A4AF8AF635E4}"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108543-25F7-43C1-B691-C9501E2539F7}"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69C338-8D1F-4821-A5BB-D2E8B5B47A99}"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DA762B-9449-4C29-A69E-BDA164C6A74C}"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5F85F2-818F-4A58-B70B-C8FDC8A8C9E8}"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DC3DFEB-3304-4821-977F-EDE73E31FA5D}"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3C9E3C-7DBD-4ADA-AFF6-02E39EEC2FDE}"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4572EE-9D78-4D6C-BE70-0B585FC0EF20}"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25F07F-8CEC-4DD7-95CB-E9219D282509}"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9BAA27-679E-4EBF-B544-F826D52595C2}"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C91B09-24C1-4C14-83F6-9C3F85006E5E}"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D48A3B-6B6D-4A29-82C5-B077B1874843}"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1F62D9-F93D-45CF-BF14-EC46C5B7ADC6}"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6BC373-A681-4AB8-8A58-826706997457}"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605670-AA9F-44F2-8A06-9FDE9EC8B53C}"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3E38EC-87F0-4112-85E3-E20DC136567F}"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247267-1707-4B3C-98D2-3FCE00654E38}"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6E116F-5D4F-4B2E-BBEB-701561BE2627}"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6C4209-3ED7-4453-9863-DDC09C93B058}"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9039B3-4676-475B-8D0D-6A1B36736EAB}"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CF5089-FB14-476C-B0D5-6252E0E6A962}"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B44D1D-E44D-4E97-898B-6BA552EA256A}"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CED993-6553-4FDC-9B3D-8BD109BE2B49}"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6F7AF3-18D7-4AFE-BCB9-C7A7466D754E}"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B2EE7E-9C71-427C-A47A-D07A11367B81}"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F367B7-F8CC-427A-BA97-4866FFA7D368}"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08EE062-5DFE-401B-9DB7-F35CB87AB936}"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AE82CA-405E-42CD-AEA6-EDD24B0D290A}"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D24319-DDB7-46E3-B272-648A4EA2C463}"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144DF6A-164F-421B-9ECB-4DF27CE89157}"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26C2AD-D2FE-4D27-A235-52B2EA15E92E}"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BEAD8B-1867-48D3-B26D-FB8C6BA5B919}"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A89107-E057-4936-8223-996F776960A0}"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18E61C-9A45-4B59-95D6-2F257438EA0D}"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5BEE68-4D36-45E7-ACF7-CBFB794A3C57}"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FD33E8-E326-4DE3-93CF-1B3972B733C9}"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D901B9-C5DA-4341-B721-B72B1FB1A02B}"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3A98908-EEE6-4793-AEB6-855DF84E9DD7}"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7526C8-3C33-428B-8E7C-B577BA62359F}"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365BD1-51AF-4E73-B927-606FB1056B27}"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3EF964-5714-4653-A442-729AE7F3E7BB}"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165D2E-3672-4271-8938-677D2862044A}"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61C3A8-3C8A-4E64-87E7-F7A36847394C}"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D56A944-DCE2-4530-8C7E-AD6659285E89}"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98BED5-3FD8-42C9-B87C-4510CA47D513}"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22A1CC-577D-4862-901E-F1EC228AA6A7}"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F1F531-D314-4D24-B0C8-169240B4A226}"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19D7D7-7F61-44BE-B0D5-B82229936CB3}"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128C07B-70DC-436C-B7E4-EDE370706459}"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5CA2F7-C642-4743-AE71-FD21E0D54DAA}"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973F9B-B96C-4EBE-89E7-8635E584F506}"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2AD88F-64A8-4592-A38F-4196A3AB5CDF}"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DA5DC5-0EB0-444F-9D73-7185C887A99B}"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587DB9-8191-4ED9-ADEE-4C5899E71A7A}"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CA4DF5-EF9F-4346-9535-5D6B29CD70A2}"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9254348-2BE2-44D8-A61C-EB63FF7FE10B}"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6301E0-065F-4D70-B980-EE00ACB6D4C7}"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E77147-3736-49ED-BBF3-594DFEA2AA51}"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DDA95F-D645-43AC-A269-555980097522}"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3D04F68-7CAB-4037-8233-B6A15AEC4E8C}"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DD7185-2713-45E6-856B-CAB88DE18EA5}"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560E072-B98B-4340-A894-5A9E19E6B432}"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C07E88-E3A7-44AD-833D-E2BB28B95813}"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3A4BC6-9B77-435C-AB7D-5B6C1F77F622}"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C746CF-41EB-4CDA-A9BE-96911F7EBD69}"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0F9DEE-EFDC-45D8-AC7B-D4E816620858}"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12D3B0-BFA4-4472-AFF0-CAE8AB80C5DE}"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38F995-6657-48C5-A480-5BA4FD034CD5}"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A48A1C-5C8E-4519-B316-57764B9E03F5}"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DBF2F1-3BD4-4626-9EAD-AF2ECCCFE04C}"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0D05F2-A8DB-4C21-BCFA-BC6685CBAB4D}"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EC9A4C-71D2-4E91-AAA7-250F796A5936}"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62CA86-4B50-4889-AF74-6D0F6DFFF8B5}"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ECD8D3-ED4B-4075-8F93-C517A0222E83}"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240D2C-1459-498A-9C71-F96F3E9D9660}"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D19617-FEF3-40EB-B76E-132390DB5DFB}"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0AB113-BA64-46F7-BF7C-B7E1B03AD1D3}"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B471EA9-C60F-4EBD-B2FD-965A3BA69F0C}"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480C20-8CF1-4CA0-8491-130C6480E785}"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0D224A-3A6B-4360-BF4D-8A5DA7D9F3D9}"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65B796-6DDB-43A5-B9A3-CB21DA1D7AE2}"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4FD050-720C-4AE7-A8B9-F29BFAA95EFA}"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5038E4-2466-4A11-AA5E-2CBBAE049F8C}"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8083F4-23CD-4A83-8835-56D75F0EA003}"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F3CD4F-CF8E-47EB-A9BE-3C395E67E9F8}"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360DCF-55B9-41BE-A296-97163C6746FF}"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644784-ACD4-4165-BCA2-EF2BA816D43E}"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99D0DC-0830-405D-A0AA-22FE96AF0D5C}"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41961B-6B79-4D8B-B58D-3F9139CB0D6A}"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D9097D-74DE-4BFB-B81B-DE86971BCD0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0AC9C4-C97E-4BE7-A1C8-F60E11143252}"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E6C388-4AB7-4823-91A4-5E8A52043585}"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2DB311-55EC-4BDC-95D5-1283CECB77CC}"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81D134-08CF-4FB3-81F4-B5653E6A46A6}"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D45E88-5939-4FA6-945F-68BC92C6C9D9}"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096D94-65B6-425A-AA4F-F17FA8BC9308}"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A37B51-E5AA-4240-8F50-DDE72FDA44CD}"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E75D72-84D4-4AED-84C6-D41C98AABDF1}"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7D9DE8-3058-426C-B2B1-76717A7A0872}"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00081D-29AD-4329-B3CD-A64827259215}"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E8CB4E-8A38-4324-B219-E01D5FA1E789}"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5FB6DE-2575-4209-B272-1BDF16BF5E7A}"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6ED908-7597-4D40-864A-F191FFFCEA87}"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7AF051-CBD9-4285-A065-1F2B5918BF63}"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A532EE-5A25-4AD0-B40F-1DA5E2BA80B5}"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35CF236-1B6A-4402-9209-A2D0B6D24FC3}"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D76083-1040-4CEA-A7D2-CC5EF498208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EF6CDA-F756-4AD6-9557-FAA2EA4845F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102DAC-C1E1-40B4-822A-F5E339D42E6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F053CC-E057-46C7-A2D8-2C077690FA1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DC74CD-EF46-4977-AF9D-AE4134056B0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181F62-DDD4-4FC0-BCBC-898DE5E2D1E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9DF7707-4726-4536-ABD2-7DFD92E8DC4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EC8846-E67F-41B8-80B4-D6C358B40F1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8138FB-B2DF-4B9E-A8A5-93711D13D7E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624ACD-5105-49B4-B348-37ECD2BDEFA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D22AF3-0254-4127-B4EF-375FC1BAB7B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542BF1-7DF8-4398-BAFA-B33105C112A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460CB7-B535-4D27-B0BB-86045D5C47F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E8C9E2-A202-481B-8641-A7DC7A80666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004174-7BF0-45CB-9022-89567DE5ABC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6F9914-7EDF-4052-8985-38DEA36CD80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B4FD1B-1BD4-4D36-BD87-1B9C3CB3E60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869737-DAC8-41FD-8890-498A27D6724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A6A96F-929D-4E57-B3B7-902A928BC14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A7769A-1FBF-4608-A303-15AAC1B2E4A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1F9A7D-DDC3-421C-B2B7-6EC02606F8E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F99CE8-5A07-4D09-82F2-52ED7F5036A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891C5F-71F0-4F44-A0B9-A41F7254DE3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F331E8-609C-4EE5-9599-F53AC43CEEF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7B4E94-F9B1-4C1D-AE82-1D085FF6A1C9}"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6C7FA1-04F1-4083-B298-8EC3F0AD25A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0B2274-9599-4984-A3EC-F940316DE57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88B886-4D5A-43BF-91E4-78D17B0DE6C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FBD888-CA91-488D-ADD1-D10F0609E43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EA7099-4B20-4688-9CEE-0A769E43782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C62306-50DF-4015-9BE4-5669D68B5DB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F57FBC-711A-4226-B28F-47A899F6987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5F8D20-5F2A-4289-9276-D0C3149D90E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B1206E-A3C8-48D9-AEBC-C04D5DDFFBE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B28EFE-135B-4463-8FBD-BCC92AC5C21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97C3FE-5841-4714-94AD-73D3C0F5BBE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0640FB-EED2-464F-8354-A128F48EC4C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35DDE4-31EA-4597-8243-8D459729B9A5}"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E660A9-F86C-4155-80F6-8BE6F1B45CC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AA762C-80D7-4576-81EE-57F1F680D28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F73F79-4096-4E41-8631-BA432475FC22}"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0DF219-2691-4B93-8729-F4AC45F0789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91FF13-1EA9-4C97-9519-06036CA3BD7C}"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948918-967F-43E5-8938-5F0A829B78C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76214A-E505-45AA-BD08-2AB57464FDFC}"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5E221B-132F-4A55-A0AD-AC67BA10C47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051549-2ED2-42A6-B3E2-47A0AFF67304}"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4DAF229-19E6-4825-94AE-8964AE84137C}"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93A899-35D6-41CD-BB61-E79176CDAD8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73DC3B-FFB8-40F4-8567-D8BA85993C06}"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E7EFAE-B8DC-4C63-8238-006C672C45A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A64F69-DB59-4B15-A136-E80314737D59}"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A6DA3F-E39E-4FE9-B2F9-D66C092CA1C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959F06-FF66-4813-A068-CA3C34F98EB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881EC9-FE55-4235-B770-4258C1E9AFB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5119CA-576E-4AD2-8693-5E9224B41FE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1A709F7-8508-4D6B-9CFF-BE7CDE0380E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B5E8AC-E4C1-4F21-B810-BC68F6637EAB}"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02C506-4D9A-48D7-9233-841CA69E5D03}"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71A9D9-6EF9-4C8D-A0BE-64D6EF54D53B}"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336292-2D64-4BAA-9D80-6453F394690F}"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6FFFAB-01E2-4F33-8047-3B3DBA843D0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C85E16-04A4-41E6-8611-26EC14A4B61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FC89A3-B2EB-4198-9179-136C2CB01A2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F637DC-86C4-4F22-AA7A-886852C5287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49CEE7-1B1D-45CD-9A00-C5D21F711E9B}"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FCD333-8FED-4F02-AF83-98D5FAF10C85}"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59B265-EDF4-4A26-9DBC-D3BC088729A6}"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7251C6-488B-431A-BC58-2F528A5532AA}"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0851BB-6123-438A-8AFC-77EF1F76250F}"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CDD6E8-3299-446D-8863-81A6BF323D11}"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092FAA5-D63C-4243-83A3-5BBCB06F5760}"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07AFC9-CBD3-4C61-9C1D-927F6A531BA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017957-3D26-4758-9773-D93273CA9BA5}"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380509-5F87-4610-A593-29F63445B6C1}"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6171D2-0CEE-4A50-808C-8015A93158DE}"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643E65-24A9-462F-AA85-53E80C21979D}"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6F07DD-63C3-44C3-AD0E-0883B4CC885E}"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DEE6A1-C0DB-45D7-BEF9-DDB4D2F69DDA}"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7044E6-3EA0-4667-9537-2F8FED8FDE0A}"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63AABE-EA13-4784-A2B8-81AF2454D59F}"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068A81-1180-44A5-B8A5-3C20A9244944}"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7CACC5-7FE3-4B1E-B169-D89BF7229C64}"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66A097-0A73-4F0A-9F0B-42B601E758D6}"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76AA60-9187-41FA-90A8-04FF7DEA5290}"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