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017458-900E-4FD1-91B5-BDEBE7B22B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2F931D-8D71-47F9-8487-43D09CF38F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B28485-AFFD-46C7-835B-61E00D567A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E8B248-97A7-4AFB-A035-204554D1A3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C3CC56C-E9B5-4F52-9513-01CEA9D97D3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DBA62F-40E9-468B-918E-F1F8A7184B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662D8B-2ABA-4ADF-AD1B-6EB8FC1328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C33E222-CD49-446B-AD9A-36EA514C22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55FC9F-9A92-461B-8D6B-5689AAF8AD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6513E6-E0B7-477B-BC8D-83EB2E48FB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24F981-B438-450A-8859-A94D47C69C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18B06B-6C4E-47B2-919F-7E6A26554F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058BF1-DA0E-4F9F-9490-144416ADB4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C6A462-668E-4F2A-8823-904FBB89A3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D7ABA6-E694-4132-A1DA-1EA99F4C80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6BAA482-3D8A-484B-B1E7-61623A111EB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0D2EA43-F489-40E5-B17D-3F6A19BB468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44FFF4-BB50-4D86-8A3B-0B7444B415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570E87-9161-466D-A5B1-AB6B03E15D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8E1E05-25C2-47D2-9D8B-6428C0437D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B3CFA7-9323-4EA5-A539-7F4B238F30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6B8C07-D058-4479-B585-22939E1F6C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73DAFA-C9AB-4B9D-BD95-57931F9661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6BE3AD-B4CC-4C39-A470-FFB412ECA6A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ABC311-1AC2-4B32-9C1C-EC0064B9B73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B52F86-F7B5-4F5E-A338-195A419F603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A4D9E35-85F2-4365-BCFE-068C32F1332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6462C7A-2E6F-4CC4-9501-FEBAD6A6CD43}"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140FC4-7FB6-4587-A490-A6540D2949EB}"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CB162C-BE6F-4807-A13E-EEA7AAD10227}"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F26C30-97DA-47D5-BA04-A5CF68E9A37F}"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949E8B-F9BF-4191-AED8-3A1D59514B6B}"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410AA9-C585-45B2-9393-73E48204ECBD}"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692C3B-2CE5-4556-AB28-49E090353A9B}"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BF896D-CFD4-4C1C-B92F-2982C83BAC72}"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6592D7-2885-405E-BD73-A9EBD2EA68A5}"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D227C4-A453-445B-AD06-2DB817441030}"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4F955B-C8A0-4B2F-A52A-D577874EEABB}"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DA090E-BC7B-4D29-A118-F535563BC553}"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9F831E-5BC0-463E-B30C-AAC8B68D32BC}"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61D599-C171-4E09-B7A4-69940BE63BD3}"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5B4C5D-BE27-4EDC-BE38-1F1F6EC319A2}"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5067C3-0F5E-42AB-9168-B8C0839E7652}"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50B5C3-B977-4BEE-8F12-BA2710DEE2D6}"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7A8D85-159E-474A-B5BB-A54F7E74B2C5}"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C36094-097C-4C81-B135-4452D88BA8A6}"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216EA5-0D65-4049-95F9-439CD2BDD942}"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CB9E40-34CA-43E6-A8D8-48253595181F}"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178E88-DE55-4312-89C4-C9EA14DA13AB}"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3E9217-92B7-4CB1-8DA2-CFFCE61139FC}"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7F5C15-547B-4601-9703-52F1C6FD1781}"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677B49-6127-402B-8047-59A54B55D0AD}"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D36863-98E5-4677-8C5F-3D11399B8D67}"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54BDD69-5B72-4478-8F49-63EE97286F2E}"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3D7366-2D1C-4823-BF9E-26141A6042A6}"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D853D6-46AE-4174-9D55-1ECBB90F598B}"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9DB90F-2828-430B-969E-94B5EF514A93}"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A867A1-80BE-4357-80F9-1504C209BEA5}"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2C38AA-57A2-4D0A-81E6-F7C96DDF91C9}"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F39205-8EA2-46F3-9DCB-4F1586898776}"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CAE98A-FEF1-4C21-B791-87A6C1A8F1A5}"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AD2611-06F2-4CDC-AD0A-EF341F646021}"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AD69CB-2272-4126-9DC2-DC1F55BA14D4}"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29C866-1BCF-497B-92D5-CDAC99F0184C}"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DD1731-DDDE-4C47-8182-E17CCA9E78E6}"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804789-521B-4657-AB99-5CFFDB6E8C71}"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2A4A60-99EA-435F-B1A0-CA073D4DEC63}"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2BC0D2-B30D-4E05-B28C-F0B095019801}"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0A29C1-08E8-495E-9444-F7F610E6E7EE}"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16C90E-E05B-4056-AD39-9F58C8FB7C46}"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F30587-43E0-4D3F-853F-A47945522EF6}"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6A8EAD-7B23-49B4-A0FF-BB07353FBA08}"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113941-D314-41F4-AFB7-8E4B2E7F7EA2}"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1EA75F-071E-451E-A3CD-A64098234D1F}"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919CC1A-6419-4903-A8EF-00AC0F17D856}"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0D584E-E1A3-4AF8-BCF0-266B8AFB6CE5}"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BCDF98-9AB3-42E0-8814-9F957A2C09AD}"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1682FE8-A1B9-4931-9B78-D81F986CC00A}"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F55CDC-6063-4CE7-806A-EE49461E8310}"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28FDC3-C970-4943-925C-A05D85652CBD}"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9AE06A-2C83-4CC3-BEB4-58D8E5AE7FEB}"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83D529-1325-4B33-B33E-51B5BDE647F4}"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BD743C-3E72-4E65-9036-89CEFD7F3B20}"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0D5284-B8D2-400D-9611-FACC4460C982}"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79FC4B-D403-4C58-9CC0-DFC2E3ED55C7}"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F55D8F3-0B9C-418D-8A8C-13818065FE8B}"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440800-43CC-42F4-A5C7-5CA8B85481B9}"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018361-1F50-40A8-83CF-32F6E18FF11B}"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1E6618-E3EE-4620-AA33-863D48892E90}"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0A694F-E551-42D3-9C3F-117B951CC2BB}"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721975-9FFE-438A-9CA5-27018FC19AA1}"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3E42505-97A1-43AE-B128-6FD0ACC2DF22}"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458F58-F33C-4E57-9AF8-0A91FE9DC016}"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AF70A3-8FD4-4CE5-876E-55A6AE660830}"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3111E2-99C5-4771-BE95-EF82C25F2CF3}"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B006AF-061C-4A9F-AD76-36EDE87C5540}"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558D450-C68C-4258-93CE-CE9B2103E24D}"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ED1C10-5E1B-4681-8BE4-2B6B9D1241B4}"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6B6397-03B7-4532-8502-5936C0A7D03E}"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F611B4-4FA7-4C37-9C5C-855F42BEAF3D}"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916457-3195-45B8-ACFA-A3360C41FFCB}"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6E2EE5-B033-4ABF-93B1-0D699384A0A6}"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798D2B-06E0-489A-8645-373875FA1C05}"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FD11DB6-B6BF-4683-BC83-D9C6ED9E0E00}"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108EDA-56E5-4CDD-855B-85AEDED48CB8}"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91D6D9-9082-457E-9468-89058371E80B}"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0E21E2-57C7-4C17-BA3B-1E290AB84849}"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08996F4-5434-4503-B094-B8050689BB1D}"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6CFC6A-F689-4F73-85D3-3726B2953C8E}"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A00111A-11EF-404F-BDE6-0064002B0631}"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0F4F8D-5B8A-4787-B2FF-54F1B5CB09DC}"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9E5673-2A8E-4582-8593-4AE98250EF5A}"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5BEDE3-F4C4-46D1-BFAD-CC81FB816701}"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97409D-9ACB-4C05-B970-4435B34C0CCE}"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F79CFC-6651-4AF8-81EE-C559B905B731}"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2C814F-6A7F-42B1-B099-B947760071D4}"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64977B-2554-40D5-81D6-8EFEDBAB20B9}"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BB136D-B146-4C34-A32F-203F0191123C}"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1D0F40-3188-4E96-969A-4DBE781B6D56}"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A6099A-EF56-478F-B0AA-3E5BD2FB24C1}"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600809-E85D-4E78-BDAB-86254911E5C3}"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E750B9-A16A-471C-9224-43116A5C06A9}"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4F0B66-7AEA-4101-BA14-4B7F3B3D6AF1}"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010F8C-53B5-4B0F-8B4F-76527E223693}"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662F0B-5BF1-49BB-AE0E-32803695A0C9}"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6DF6243-E6A0-4E81-9E1A-F41B6FA4D75F}"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CEB448-1B9E-4591-BC22-9585CAAC2120}"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146EAD-4B73-48A3-9609-21622FC78424}"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D76C0E-CBEB-4E88-9C3B-ACB90D552BF8}"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65C0E2-F9C3-43B1-9F9C-306DE16781DF}"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26E85F-1B56-4527-927B-B1382B145968}"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2EF70A-138D-48F9-BA51-F73079110DB0}"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ADBA0A-A1E1-4C9B-91C9-15721FAB7DB1}"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3F7569-2AEC-4544-A243-A9D555886127}"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EF8AB4-48EA-4A6D-8B8D-0A8B8FDFFE29}"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ACE482-2D36-41A9-8A5D-E0DA8BB593F1}"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1833FB-4AF2-4A32-9FD7-B338E3A970D1}"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0F5E88-7D95-461F-9E94-E57776378B4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7F6695-221D-4A50-B90F-9629C437EB60}"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29F974-7870-4EB4-A3A8-9C8FB6DE333D}"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CBECA0-269E-40F2-ABD5-70563D3F01D5}"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9E3321-5B34-414A-96A7-74FEFAD98EC8}"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3C67AC-F89C-4B6E-92A9-954E8D69610F}"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3E1D0B-B44C-4C72-B686-42998DC4CDD3}"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B225D3-F9BC-416F-AFBD-38FA571BE820}"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98BD22-AD73-42BF-91EA-6834402CB2A0}"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2CA892-84C9-4F05-9D7F-1DCB83CE6C52}"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162FB8-F085-45A9-863D-73A68AE31265}"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3F81FE-F0C3-4C1C-82DD-DAFF93D9D7F0}"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92851A-E7A5-49D9-BFB7-1C8D369791F7}"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6CF6AC-CB6B-4494-873C-2FA8A1B55ACC}"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6C2EA0-FFBA-4D84-B575-4BC3A41352F4}"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8AD26D-DC99-48D4-BD79-1A9D887F7544}"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FF9FB9F-A0F2-4B2B-B64D-62E44CC1C188}"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995BA8-4B4E-4917-A432-52E5CAB6F33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66AE2A-3327-4109-A1D4-64A192DB879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351BF1-88CB-4971-A3A8-05CEE250515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22122B-8544-4665-9AAF-60095065B76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148F20-57D1-441B-B0D1-589CA04BC5E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16870D-3B0A-4877-987B-EBB40670725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A1DADB7-B666-45C3-8C79-F80BE576470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E6186E-921F-45B2-BE44-55E9EC82212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6E9E42-2DB3-46CA-A507-360F8A997F9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DEA636-B17B-43F8-A9F3-CC270214076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E0D413-D18B-4139-B1AB-B5B73200202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D34077-4F1F-417E-B476-EB5283B0BAD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B36E37-E9E3-419C-B286-FCEE6954403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2CBA35-BBFC-48ED-B4F3-3800A6025DC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EBC896-1BA6-4743-B4AF-06D14A0C60D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449E20-9767-4D17-BF73-E91FD8F6F0A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80DB37-D3F2-4790-9222-647CED91775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4B0530-057F-426C-9507-F4ED6FC10848}"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75566F-3152-4649-911B-8A637DD9C00B}"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CD8AD3-AD83-47A8-AC26-DACA4B79622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BA32D9-3184-47A7-ACD4-E88D5CA79150}"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C829F5-1A1D-4D99-896D-B2FFA4238166}"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21C0F0-DBA0-424B-994E-FA0107C5C3A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E35BED-4B8F-439B-951A-8D0C984B8713}"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3DDA04-98CD-4254-BAA1-48E5A69897FA}"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88C02D-43FD-4037-A437-ED0A67B9250E}"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AD800B-B021-43DC-81A1-C3E699FD1DC7}"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3D0D13-8DA1-4138-B476-475041496EB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AEBA53-71EA-4215-8C70-FF01129E3434}"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1F3733-C432-40C9-BA47-E81912FC9830}"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070978-C247-4991-A47E-642122CFDDA0}"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1DA130-DDE4-4187-A958-0B7798CB31FC}"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18D451-541A-4E17-B210-0B5ECF1960C9}"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013B18-E407-4B12-8D1F-F063B4AA74EC}"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B4A3C8-194E-48D2-9DB6-550F0B70DE5E}"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3CE981-0F43-43ED-9EDC-3EAD4A84632C}"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22396B-288A-463E-A0EA-4DF01E87F263}"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16B957-16D7-4F86-A9BF-4CC4C6F539B9}"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B1DC1F-67AE-4634-B98D-64442E8937A6}"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B7297C-68B6-4529-BAF0-A0513625CDB6}"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49A932-3163-47DE-9586-16F1750ED7F3}"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15A165-590B-438C-A0E7-F574E9958288}"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DA3AB9-8AFE-4C7D-B0BB-8CF19F625215}"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5B19A3-6B76-47E0-9028-CEDC00B37B0F}"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6F1DBE-35DF-4F52-88B8-7D83E9F1D204}"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417BCD-A845-4FA3-AE7D-01B8129B33B9}"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0E211A-9CE8-4785-82F1-6F8A854AC75D}"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CFECA98-09FE-4928-B07B-5B633E5117FC}"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0FBECD-BAC4-4FF3-86DE-7F0F34BA3D01}"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9039BE-7DCC-4054-88C3-45DDABDA916F}"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12105D-7890-4979-A686-C4D4F75F6BAE}"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6AB464-71A7-4998-B7BC-AFD6ED19F0C8}"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D44730-D5D1-4EF7-95AA-B57859237AD3}"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DAD644-4E57-48C6-88A7-BCF3D2125EFB}"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1AC89D-5848-49AF-9077-9F39E84D6236}"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076F6A-0717-4068-98C3-15A8B45D51C8}"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ADE2362-6460-4733-B039-7D6B36C06E9F}"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83111F-B9A3-4DC4-BF09-62468BEBD640}"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EC192C-5C29-428C-BCC4-7D95BCCC4B41}"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D34FC9-7213-4BD1-8332-A7019C9E1D04}"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217816-ED65-4F0D-97D0-CFA25B26A1A5}"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4964FC-C7B1-41F4-8AA7-3A85347930F1}"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AB2143-F80C-4B4B-A7E5-C73A6ECD7506}"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173F3A-CEF1-4095-92F9-310696732758}"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39B338-50BA-4448-8A12-4E0C8293F3CD}"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2FF2C9-B2B8-45EF-9F4C-F1EDE6CEEA6D}"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EEB144-35B0-4299-A521-C4E3F47CE469}"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EFE486-74E0-4AEB-B1B2-C7E864646516}"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79EE6B-FB5E-429F-B729-E0F66E1786E6}"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1F45C9-81E0-4733-87B5-B748E6F5E402}"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03E71D-A20D-4AA8-8417-70A4FD1BE2D3}"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51B7B52-7077-4C30-9335-11BCF4007CE0}"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0B439F-21A6-4797-872C-C58EEC0CF8AF}"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D12142-39CA-48D1-8C04-58D05C31DC51}"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A52C01-D9B4-4D6B-B866-0D332A53F633}"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FA0F1F-7BE0-43DC-A4ED-41BA29C831CC}"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5812B7-02AA-4C33-829B-D6BE8F50C90D}"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A430A3-528D-4C74-9FB0-632F604251C4}"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1BEB2B-A9AA-44CC-B35F-826CEE1C1BC6}"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D61212-A845-472E-92D9-5DBA16D1309A}"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2ED861-664D-4298-B6E1-FC2B8B5CA71D}"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651043-B9D5-4F04-B731-91E30ED2FE3C}"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CC1E2B-110A-42F8-8D70-7FE21E5FD288}"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2539B5-3742-441D-AFB4-DC5081206BA9}"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4CC2BF-6FEF-4FAD-952D-E7ED333FF1CA}"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