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1F1C7-2553-48CB-9389-103C48B44E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6736A-B68E-4006-BF16-3DECA802F87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A64AA8-180D-4B9B-B5F9-CAFD0B6102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F6895-16B6-415F-9393-6E0CC037E64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456B3-1802-47D9-A8E1-EF4DBC077B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A1AE3-A1AC-4358-A743-8047310398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754FF3-1B2E-4081-885E-A5F18989F0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BDEFC-BD73-4353-95AB-5E7BAF622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83A92-AA29-4936-8990-0EAF752D7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2551B-7431-475B-B75B-CC262C09C1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79979F-8273-4859-B04A-69D6395CB1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FB74E-E60D-4296-9ED7-AC4E637170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43228-A493-49E1-BE2B-B27CD5BA53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496880" y="2239920"/>
            <a:ext cx="312840" cy="495360"/>
            <a:chOff x="1496880" y="223992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575000" y="22399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653120" y="23814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53540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53120" y="25938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496880" y="24876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2136600" y="21733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174760" y="2260440"/>
            <a:ext cx="1063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59280" y="223992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197240" y="2400480"/>
            <a:ext cx="295560" cy="587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V="1">
            <a:off x="3260880" y="2550960"/>
            <a:ext cx="65088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136600" y="285264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449440" y="28036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43200" y="2421000"/>
            <a:ext cx="24912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897360" y="2011320"/>
            <a:ext cx="6490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191120" y="292572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7560" y="2087640"/>
            <a:ext cx="688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78200" y="185904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6880" y="277344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249880" y="2697120"/>
            <a:ext cx="312840" cy="495360"/>
            <a:chOff x="5249880" y="2697120"/>
            <a:chExt cx="312840" cy="495360"/>
          </a:xfrm>
        </p:grpSpPr>
        <p:sp>
          <p:nvSpPr>
            <p:cNvPr id="60" name=""/>
            <p:cNvSpPr/>
            <p:nvPr/>
          </p:nvSpPr>
          <p:spPr>
            <a:xfrm>
              <a:off x="5328000" y="26971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406120" y="28386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528840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406120" y="30510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249880" y="29448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4572000" y="350820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095880" y="24112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21440" y="254808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423120" y="304164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1200" y="3103560"/>
            <a:ext cx="1125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6149880" y="15987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08840" y="170028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Document"/>
          <p:cNvSpPr/>
          <p:nvPr/>
        </p:nvSpPr>
        <p:spPr>
          <a:xfrm>
            <a:off x="6777000" y="159876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24800" y="1700280"/>
            <a:ext cx="572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8015400" y="3630600"/>
            <a:ext cx="4633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961400" y="363060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831000" y="3757680"/>
            <a:ext cx="312840" cy="501480"/>
            <a:chOff x="6831000" y="3757680"/>
            <a:chExt cx="312840" cy="501480"/>
          </a:xfrm>
        </p:grpSpPr>
        <p:sp>
          <p:nvSpPr>
            <p:cNvPr id="77" name=""/>
            <p:cNvSpPr/>
            <p:nvPr/>
          </p:nvSpPr>
          <p:spPr>
            <a:xfrm>
              <a:off x="6909120" y="37576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987240" y="39009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686952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87240" y="41158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831000" y="40082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5562720" y="2894040"/>
            <a:ext cx="5205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67080" y="23162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6477120" y="20808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934320" y="2106720"/>
            <a:ext cx="1522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188120" y="3255840"/>
            <a:ext cx="812880" cy="47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7110000" y="3909960"/>
            <a:ext cx="927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86400" y="463716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24560" y="483696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94320" y="5292720"/>
            <a:ext cx="112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11840" y="5268960"/>
            <a:ext cx="74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148520" y="4075200"/>
            <a:ext cx="0" cy="54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495680" y="2697120"/>
            <a:ext cx="787680" cy="196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915080" y="2989080"/>
            <a:ext cx="30456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7848720" y="2563920"/>
            <a:ext cx="293400" cy="587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8026560" y="2641680"/>
            <a:ext cx="68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7238880" y="2792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86200" y="38098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5410080" y="321300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252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Document"/>
          <p:cNvSpPr/>
          <p:nvPr/>
        </p:nvSpPr>
        <p:spPr>
          <a:xfrm>
            <a:off x="5170320" y="384012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118120" y="387360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62388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Z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03840" y="572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59Z</dcterms:modified>
  <cp:revision>154</cp:revision>
  <dc:subject/>
  <dc:title>Slide 1</dc:title>
</cp:coreProperties>
</file>