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DD18F-5D34-4A90-9EFA-6089D6F74B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30A18-903A-4EB9-88B0-948B641DD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C129A8-AA6F-4F4B-A91C-440AA51B99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4E498A-623C-41C5-A090-E20E9B8F40C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231F0-F866-4A07-B709-1BB8DB1AAC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E4AC5-AD7B-42D0-BD00-D0AD31C522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66823A-F68E-4A3D-A812-4D44F5BE74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4A1E3-7CFE-45BC-9D35-B29F5DD187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C24E0-50BE-4323-A29F-5FC41A01EB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04E6-95FD-45E2-AA9E-3861DEB948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D3618-D0B2-46D2-A7EA-571B9693B6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4D0A-16FC-4DF2-A626-57010CF300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032C-58F7-4755-BB69-226A9B3A6B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" name=""/>
          <p:cNvGrpSpPr/>
          <p:nvPr/>
        </p:nvGrpSpPr>
        <p:grpSpPr>
          <a:xfrm>
            <a:off x="1905120" y="2041560"/>
            <a:ext cx="380880" cy="609120"/>
            <a:chOff x="1905120" y="2041560"/>
            <a:chExt cx="380880" cy="609120"/>
          </a:xfrm>
        </p:grpSpPr>
        <p:sp>
          <p:nvSpPr>
            <p:cNvPr id="41" name=""/>
            <p:cNvSpPr/>
            <p:nvPr/>
          </p:nvSpPr>
          <p:spPr>
            <a:xfrm>
              <a:off x="2000160" y="2041560"/>
              <a:ext cx="19008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095560" y="221544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95264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095560" y="2476800"/>
              <a:ext cx="14256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905120" y="234612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3048120" y="188928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196524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one-Signing Key (Z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689440" y="2041560"/>
            <a:ext cx="358920" cy="72216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51520" y="2041560"/>
            <a:ext cx="358560" cy="722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4419720" y="23464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62320" y="2346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048120" y="274176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915080" y="272736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524560" y="27147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Z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5051520" y="4175280"/>
            <a:ext cx="358560" cy="722160"/>
          </a:xfrm>
          <a:prstGeom prst="rect">
            <a:avLst/>
          </a:prstGeom>
          <a:ln w="0">
            <a:noFill/>
          </a:ln>
        </p:spPr>
      </p:pic>
      <p:grpSp>
        <p:nvGrpSpPr>
          <p:cNvPr id="56" name=""/>
          <p:cNvGrpSpPr/>
          <p:nvPr/>
        </p:nvGrpSpPr>
        <p:grpSpPr>
          <a:xfrm>
            <a:off x="1927080" y="4214880"/>
            <a:ext cx="381240" cy="609120"/>
            <a:chOff x="1927080" y="4214880"/>
            <a:chExt cx="381240" cy="609120"/>
          </a:xfrm>
        </p:grpSpPr>
        <p:sp>
          <p:nvSpPr>
            <p:cNvPr id="57" name=""/>
            <p:cNvSpPr/>
            <p:nvPr/>
          </p:nvSpPr>
          <p:spPr>
            <a:xfrm>
              <a:off x="2022480" y="4214880"/>
              <a:ext cx="190440" cy="173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117520" y="4388760"/>
              <a:ext cx="0" cy="26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97424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117520" y="4650120"/>
              <a:ext cx="142920" cy="17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927080" y="451944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3070080" y="4022640"/>
            <a:ext cx="1371600" cy="1081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124080" y="4098960"/>
            <a:ext cx="129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-Signing Key (KSK)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689440" y="4175280"/>
            <a:ext cx="358920" cy="722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3556080" y="479916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432320" y="4479840"/>
            <a:ext cx="596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9360" y="4479840"/>
            <a:ext cx="723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073320" y="48751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7680" y="4848120"/>
            <a:ext cx="609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ubli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37160" y="485136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SK (privat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556080" y="2665440"/>
            <a:ext cx="53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30120" y="54756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Gen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486400" y="190512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486400" y="4038480"/>
            <a:ext cx="762120" cy="1371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3355920"/>
            <a:ext cx="1752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ore safely and at different lo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48520" y="2743200"/>
            <a:ext cx="1434960" cy="6350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6248520" y="3772080"/>
            <a:ext cx="1434960" cy="876240"/>
          </a:xfrm>
          <a:prstGeom prst="line">
            <a:avLst/>
          </a:prstGeom>
          <a:ln w="3240">
            <a:solidFill>
              <a:srgbClr val="00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3T21:15:59Z</dcterms:created>
  <dc:creator> </dc:creator>
  <dc:description/>
  <dc:language>en-US</dc:language>
  <cp:lastModifiedBy>Jo Morrison</cp:lastModifiedBy>
  <dcterms:modified xsi:type="dcterms:W3CDTF">2005-09-11T22:31:35Z</dcterms:modified>
  <cp:revision>154</cp:revision>
  <dc:subject/>
  <dc:title>Slide 1</dc:title>
</cp:coreProperties>
</file>