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289EB-CED0-4934-8D38-728457F7C1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45C44-D582-41DD-9099-6076C5791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9439B-3087-4B2D-932F-B992EDEC5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34189-BEFB-48FF-84F0-4ABA3F903B0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360FF-5598-4784-B5FC-6930B99EE8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76AFD-0C0C-4520-8415-5BEFA86722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101CD-5386-4A31-9C2E-B5AC5D0D5E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A6198-CF77-4A81-96CC-960FDB9A09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B2072-4A39-4FAE-A91B-275475B582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DD761-961D-4F1F-BF2F-9B17460816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47C00-9315-43C7-ACBE-6FCB7346E2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4FEEB-893B-4D8C-AA85-C464B4C312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8F65D-CE0C-4F53-8993-B19C0EB71B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wmf"/><Relationship Id="rId5" Type="http://schemas.openxmlformats.org/officeDocument/2006/relationships/image" Target="../media/image2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2153400">
            <a:off x="4414320" y="4398840"/>
            <a:ext cx="1204920" cy="208080"/>
          </a:xfrm>
          <a:custGeom>
            <a:avLst/>
            <a:gdLst>
              <a:gd name="textAreaLeft" fmla="*/ 188280 w 1204920"/>
              <a:gd name="textAreaRight" fmla="*/ 1054440 w 1204920"/>
              <a:gd name="textAreaTop" fmla="*/ 51840 h 208080"/>
              <a:gd name="textAreaBottom" fmla="*/ 156240 h 20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" name=""/>
          <p:cNvGrpSpPr/>
          <p:nvPr/>
        </p:nvGrpSpPr>
        <p:grpSpPr>
          <a:xfrm>
            <a:off x="5653080" y="4800600"/>
            <a:ext cx="312840" cy="495360"/>
            <a:chOff x="5653080" y="4800600"/>
            <a:chExt cx="312840" cy="495360"/>
          </a:xfrm>
        </p:grpSpPr>
        <p:sp>
          <p:nvSpPr>
            <p:cNvPr id="42" name=""/>
            <p:cNvSpPr/>
            <p:nvPr/>
          </p:nvSpPr>
          <p:spPr>
            <a:xfrm>
              <a:off x="5731200" y="48006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809320" y="49420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569160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809320" y="51544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5653080" y="50482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549760" y="3689280"/>
            <a:ext cx="295560" cy="58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24480" y="368928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715000" y="3537000"/>
            <a:ext cx="83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old ZSK an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781680" y="570060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575400" y="626436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567480" y="451152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05640" y="464832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962760" y="514188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550200" y="5178600"/>
            <a:ext cx="11253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997680" y="5391000"/>
            <a:ext cx="11592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35960" y="3201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61160" y="3414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631280" y="3857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012160" y="3821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7962840" y="12812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639200" y="2282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701120" y="12193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701120" y="2705040"/>
            <a:ext cx="9396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13600" y="270504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56320" y="1539720"/>
            <a:ext cx="112680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94120" y="17017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87880" y="2182680"/>
            <a:ext cx="5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64240" y="221940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5195880" y="2921040"/>
            <a:ext cx="312840" cy="495360"/>
            <a:chOff x="5195880" y="2921040"/>
            <a:chExt cx="312840" cy="495360"/>
          </a:xfrm>
        </p:grpSpPr>
        <p:sp>
          <p:nvSpPr>
            <p:cNvPr id="71" name=""/>
            <p:cNvSpPr/>
            <p:nvPr/>
          </p:nvSpPr>
          <p:spPr>
            <a:xfrm>
              <a:off x="5274000" y="292104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352120" y="306252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23440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352120" y="327492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195880" y="316872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2925720" y="161280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951280" y="180036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921040" y="228132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63760" y="2244600"/>
            <a:ext cx="552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1865160" y="82404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1554120" y="1851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One Max Zone TT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603440" y="762120"/>
            <a:ext cx="939600" cy="1733400"/>
          </a:xfrm>
          <a:custGeom>
            <a:avLst/>
            <a:gdLst>
              <a:gd name="textAreaLeft" fmla="*/ 45720 w 939600"/>
              <a:gd name="textAreaRight" fmla="*/ 893880 w 939600"/>
              <a:gd name="textAreaTop" fmla="*/ 45720 h 1733400"/>
              <a:gd name="textAreaBottom" fmla="*/ 1687680 h 1733400"/>
            </a:gdLst>
            <a:ahLst/>
            <a:rect l="textAreaLeft" t="textAreaTop" r="textAreaRight" b="textAreaBottom"/>
            <a:pathLst>
              <a:path w="21600" h="39841">
                <a:moveTo>
                  <a:pt x="3600" y="0"/>
                </a:moveTo>
                <a:arcTo wR="3600" hR="3600" stAng="16200000" swAng="-5400000"/>
                <a:lnTo>
                  <a:pt x="0" y="36241"/>
                </a:lnTo>
                <a:arcTo wR="3600" hR="3600" stAng="10800000" swAng="-5400000"/>
                <a:lnTo>
                  <a:pt x="18000" y="398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16040" y="2247840"/>
            <a:ext cx="939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897200" y="2232000"/>
            <a:ext cx="43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219320" y="3060720"/>
            <a:ext cx="312480" cy="495360"/>
            <a:chOff x="1219320" y="3060720"/>
            <a:chExt cx="312480" cy="495360"/>
          </a:xfrm>
        </p:grpSpPr>
        <p:sp>
          <p:nvSpPr>
            <p:cNvPr id="86" name=""/>
            <p:cNvSpPr/>
            <p:nvPr/>
          </p:nvSpPr>
          <p:spPr>
            <a:xfrm>
              <a:off x="1297440" y="306072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375560" y="3202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125784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375560" y="3414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219320" y="3308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"/>
          <p:cNvSpPr/>
          <p:nvPr/>
        </p:nvSpPr>
        <p:spPr>
          <a:xfrm>
            <a:off x="1909800" y="30574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7960" y="31194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3757680" y="31240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7"/>
          <a:stretch/>
        </p:blipFill>
        <p:spPr>
          <a:xfrm>
            <a:off x="3995640" y="32846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033720" y="3429000"/>
            <a:ext cx="67644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909800" y="37368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246400" y="370044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616040" y="3279600"/>
            <a:ext cx="249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703840" y="4317840"/>
            <a:ext cx="8892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5538960" y="3238200"/>
            <a:ext cx="885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5348160" y="2413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65640" y="3708360"/>
            <a:ext cx="138744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V="1">
            <a:off x="4332240" y="3073320"/>
            <a:ext cx="87624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062240" y="2374920"/>
            <a:ext cx="739800" cy="73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2529000" y="1905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08360" y="2895480"/>
            <a:ext cx="61128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958000" y="4876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 flipV="1">
            <a:off x="7010280" y="4343040"/>
            <a:ext cx="763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Document"/>
          <p:cNvSpPr/>
          <p:nvPr/>
        </p:nvSpPr>
        <p:spPr>
          <a:xfrm>
            <a:off x="3889440" y="4876920"/>
            <a:ext cx="563400" cy="5490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36880" y="491508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4357800" y="3251160"/>
            <a:ext cx="838080" cy="1612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510080" y="4876560"/>
            <a:ext cx="11430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6033600" y="1905120"/>
            <a:ext cx="1600200" cy="30456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2894040" y="4876920"/>
            <a:ext cx="312840" cy="501480"/>
            <a:chOff x="2894040" y="4876920"/>
            <a:chExt cx="312840" cy="501480"/>
          </a:xfrm>
        </p:grpSpPr>
        <p:sp>
          <p:nvSpPr>
            <p:cNvPr id="115" name=""/>
            <p:cNvSpPr/>
            <p:nvPr/>
          </p:nvSpPr>
          <p:spPr>
            <a:xfrm>
              <a:off x="2972160" y="48769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050280" y="50202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3256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3050280" y="52351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94040" y="51274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1539720" y="5800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77880" y="59371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884240" y="6431040"/>
            <a:ext cx="55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440" y="646740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3198600" y="3962520"/>
            <a:ext cx="739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3274920" y="5029200"/>
            <a:ext cx="54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2487240" y="5232240"/>
            <a:ext cx="431640" cy="571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56120" y="57625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081320" y="59691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642456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68960" y="6388200"/>
            <a:ext cx="615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4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78040" y="6006960"/>
            <a:ext cx="355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" y="2286000"/>
            <a:ext cx="760320" cy="3886200"/>
          </a:xfrm>
          <a:custGeom>
            <a:avLst/>
            <a:gdLst>
              <a:gd name="textAreaLeft" fmla="*/ 101880 w 760320"/>
              <a:gd name="textAreaRight" fmla="*/ 658440 w 760320"/>
              <a:gd name="textAreaTop" fmla="*/ 779040 h 3886200"/>
              <a:gd name="textAreaBottom" fmla="*/ 2718360 h 3886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663" stAng="-5400000" swAng="-5400000"/>
                <a:lnTo>
                  <a:pt x="0" y="10777"/>
                </a:lnTo>
                <a:arcTo wR="21600" hR="8663" stAng="10800000" swAng="-2916158"/>
                <a:lnTo>
                  <a:pt x="14400" y="21105"/>
                </a:lnTo>
                <a:lnTo>
                  <a:pt x="21600" y="18383"/>
                </a:lnTo>
                <a:lnTo>
                  <a:pt x="14400" y="14671"/>
                </a:lnTo>
                <a:lnTo>
                  <a:pt x="14400" y="16831"/>
                </a:lnTo>
                <a:arcTo wR="21600" hR="8663" stAng="7883842" swAng="2746802"/>
                <a:lnTo>
                  <a:pt x="161" y="9720"/>
                </a:lnTo>
                <a:arcTo wR="21600" hR="8663" stAng="-10630644" swAng="5230644"/>
                <a:close/>
              </a:path>
              <a:path fill="darkenLess" w="21600" h="21600">
                <a:moveTo>
                  <a:pt x="21600" y="0"/>
                </a:moveTo>
                <a:arcTo wR="21600" hR="8663" stAng="-5400000" swAng="-5400000"/>
                <a:lnTo>
                  <a:pt x="0" y="8663"/>
                </a:lnTo>
                <a:arcTo wR="21600" hR="8663" stAng="10800000" swAng="-169356"/>
                <a:lnTo>
                  <a:pt x="161" y="9720"/>
                </a:lnTo>
                <a:arcTo wR="21600" hR="8663" stAng="-10630644" swAng="5230644"/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48120" y="38606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25960" y="297180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51040" y="27432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7160" y="3657600"/>
            <a:ext cx="1295280" cy="30492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763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SK Roll-Over – Pre-Publish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209320" y="3581280"/>
            <a:ext cx="160020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09680" y="48769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911760" y="825480"/>
            <a:ext cx="312480" cy="501840"/>
            <a:chOff x="3911760" y="825480"/>
            <a:chExt cx="312480" cy="501840"/>
          </a:xfrm>
        </p:grpSpPr>
        <p:sp>
          <p:nvSpPr>
            <p:cNvPr id="141" name=""/>
            <p:cNvSpPr/>
            <p:nvPr/>
          </p:nvSpPr>
          <p:spPr>
            <a:xfrm>
              <a:off x="3989880" y="82548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068000" y="9687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95028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068000" y="11840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911760" y="10764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 flipH="1">
            <a:off x="3479760" y="1041480"/>
            <a:ext cx="380880" cy="5713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4216320" y="99072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Document"/>
          <p:cNvSpPr/>
          <p:nvPr/>
        </p:nvSpPr>
        <p:spPr>
          <a:xfrm>
            <a:off x="477828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737240" y="787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Document"/>
          <p:cNvSpPr/>
          <p:nvPr/>
        </p:nvSpPr>
        <p:spPr>
          <a:xfrm>
            <a:off x="5405400" y="7621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51400" y="8128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Document"/>
          <p:cNvSpPr/>
          <p:nvPr/>
        </p:nvSpPr>
        <p:spPr>
          <a:xfrm>
            <a:off x="6032520" y="7621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979960" y="81288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5100480" y="1198440"/>
            <a:ext cx="504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5486400" y="1260360"/>
            <a:ext cx="115920" cy="26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91320" y="1198440"/>
            <a:ext cx="314280" cy="32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Document"/>
          <p:cNvSpPr/>
          <p:nvPr/>
        </p:nvSpPr>
        <p:spPr>
          <a:xfrm>
            <a:off x="6683400" y="38178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654960" y="3843360"/>
            <a:ext cx="57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Document"/>
          <p:cNvSpPr/>
          <p:nvPr/>
        </p:nvSpPr>
        <p:spPr>
          <a:xfrm>
            <a:off x="7674120" y="556272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620120" y="565164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Document"/>
          <p:cNvSpPr/>
          <p:nvPr/>
        </p:nvSpPr>
        <p:spPr>
          <a:xfrm>
            <a:off x="8300880" y="556272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248680" y="565164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7010280" y="3162240"/>
            <a:ext cx="312840" cy="501840"/>
            <a:chOff x="7010280" y="3162240"/>
            <a:chExt cx="312840" cy="501840"/>
          </a:xfrm>
        </p:grpSpPr>
        <p:sp>
          <p:nvSpPr>
            <p:cNvPr id="164" name=""/>
            <p:cNvSpPr/>
            <p:nvPr/>
          </p:nvSpPr>
          <p:spPr>
            <a:xfrm>
              <a:off x="7088400" y="316224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166520" y="330552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704880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166520" y="3520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10280" y="3413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 flipV="1">
            <a:off x="6858000" y="35053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15200" y="35053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8229600" y="2971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607160" y="538488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683480" y="5041800"/>
            <a:ext cx="85104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Document"/>
          <p:cNvSpPr/>
          <p:nvPr/>
        </p:nvSpPr>
        <p:spPr>
          <a:xfrm>
            <a:off x="3025800" y="57913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57913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Document"/>
          <p:cNvSpPr/>
          <p:nvPr/>
        </p:nvSpPr>
        <p:spPr>
          <a:xfrm>
            <a:off x="241200" y="59436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00160" y="600696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Document"/>
          <p:cNvSpPr/>
          <p:nvPr/>
        </p:nvSpPr>
        <p:spPr>
          <a:xfrm>
            <a:off x="851040" y="625644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8480" y="63198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1384200" y="6324480"/>
            <a:ext cx="139680" cy="19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87320" y="6172200"/>
            <a:ext cx="73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"/>
          <p:cNvGrpSpPr/>
          <p:nvPr/>
        </p:nvGrpSpPr>
        <p:grpSpPr>
          <a:xfrm>
            <a:off x="3573360" y="6267600"/>
            <a:ext cx="312840" cy="501480"/>
            <a:chOff x="3573360" y="6267600"/>
            <a:chExt cx="312840" cy="501480"/>
          </a:xfrm>
        </p:grpSpPr>
        <p:sp>
          <p:nvSpPr>
            <p:cNvPr id="183" name=""/>
            <p:cNvSpPr/>
            <p:nvPr/>
          </p:nvSpPr>
          <p:spPr>
            <a:xfrm>
              <a:off x="3651480" y="626760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729600" y="641088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61188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9600" y="662580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3360" y="6518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3276720" y="6286680"/>
            <a:ext cx="30456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39625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70400" y="601992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8"/>
          <a:stretch/>
        </p:blipFill>
        <p:spPr>
          <a:xfrm>
            <a:off x="6070680" y="250200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5878440" y="30528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5765400" y="2400120"/>
            <a:ext cx="30492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9"/>
          <a:stretch/>
        </p:blipFill>
        <p:spPr>
          <a:xfrm>
            <a:off x="1650960" y="4940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447920" y="457200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841400" y="5549760"/>
            <a:ext cx="190440" cy="241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0"/>
          <a:stretch/>
        </p:blipFill>
        <p:spPr>
          <a:xfrm>
            <a:off x="7265880" y="56847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7061040" y="62611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315200" y="540972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3873600" y="6095880"/>
            <a:ext cx="164880" cy="35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37Z</dcterms:modified>
  <cp:revision>154</cp:revision>
  <dc:subject/>
  <dc:title>Slide 1</dc:title>
</cp:coreProperties>
</file>