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47B7A8-C297-4B53-A625-6B036B03EAB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BA43B-E56F-4BF7-90BC-5DAE003C1A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6C8B1C-DB9C-46AB-B323-F20C062AA99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A97D2-AAA5-46C8-BB85-555FB66DE13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C4C12-68C6-41C7-8284-DBD5A8F10E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AFBD9-8E17-41DE-A5C8-4F5474FDE4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93123C-854A-4E18-A8E3-C265A0AB7D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9E93C1-BB7A-4E98-85F5-8D553147E8E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27D29B-552B-4DD7-B771-669A79F855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9EADCA-1687-477B-ABE0-E61EF7A07B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2F13DB-79A5-4500-AB62-5DC5DE3F57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7778A-DCBA-40DA-BF33-DA4C269CF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E669-0085-4B5D-9D18-1416DC7D2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Document"/>
          <p:cNvSpPr/>
          <p:nvPr/>
        </p:nvSpPr>
        <p:spPr>
          <a:xfrm>
            <a:off x="236232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24160" y="2133720"/>
            <a:ext cx="762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3200400" y="2133720"/>
            <a:ext cx="380880" cy="609120"/>
            <a:chOff x="3200400" y="2133720"/>
            <a:chExt cx="380880" cy="609120"/>
          </a:xfrm>
        </p:grpSpPr>
        <p:sp>
          <p:nvSpPr>
            <p:cNvPr id="43" name=""/>
            <p:cNvSpPr/>
            <p:nvPr/>
          </p:nvSpPr>
          <p:spPr>
            <a:xfrm>
              <a:off x="3295440" y="2133720"/>
              <a:ext cx="190080" cy="173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390840" y="230760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24792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90840" y="256896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200400" y="24382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Document"/>
          <p:cNvSpPr/>
          <p:nvPr/>
        </p:nvSpPr>
        <p:spPr>
          <a:xfrm>
            <a:off x="6553080" y="2057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515280" y="215892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6019920" y="2158920"/>
            <a:ext cx="380880" cy="609840"/>
            <a:chOff x="6019920" y="2158920"/>
            <a:chExt cx="380880" cy="609840"/>
          </a:xfrm>
        </p:grpSpPr>
        <p:sp>
          <p:nvSpPr>
            <p:cNvPr id="51" name=""/>
            <p:cNvSpPr/>
            <p:nvPr/>
          </p:nvSpPr>
          <p:spPr>
            <a:xfrm>
              <a:off x="6114960" y="2158920"/>
              <a:ext cx="190080" cy="174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210360" y="2333160"/>
              <a:ext cx="0" cy="26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606744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210360" y="2594520"/>
              <a:ext cx="142560" cy="17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19920" y="246384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3683160" y="2247840"/>
            <a:ext cx="2273040" cy="304920"/>
          </a:xfrm>
          <a:prstGeom prst="leftRightArrow">
            <a:avLst>
              <a:gd name="adj1" fmla="val 50000"/>
              <a:gd name="adj2" fmla="val 14840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581280" y="10666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05240" y="1498680"/>
            <a:ext cx="343080" cy="81288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05520" y="3978360"/>
            <a:ext cx="685800" cy="76176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4165560"/>
            <a:ext cx="1143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name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4648320" y="4359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4267080"/>
            <a:ext cx="152640" cy="1526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553080" y="373392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578640" y="3774960"/>
            <a:ext cx="129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eate Delegation at Par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975360" y="4510080"/>
            <a:ext cx="53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6320" y="4586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010280" y="2819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791320" y="42670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3276720" y="4114800"/>
            <a:ext cx="501480" cy="120168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438280" y="5334120"/>
            <a:ext cx="152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it for the Correct DS to App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876920" y="1600200"/>
            <a:ext cx="3200400" cy="40384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38088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ng Delegations – Child-Zone Activ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362320" y="4038480"/>
            <a:ext cx="1676160" cy="2133720"/>
          </a:xfrm>
          <a:custGeom>
            <a:avLst/>
            <a:gdLst>
              <a:gd name="textAreaLeft" fmla="*/ 81720 w 1676160"/>
              <a:gd name="textAreaRight" fmla="*/ 1594440 w 1676160"/>
              <a:gd name="textAreaTop" fmla="*/ 81720 h 2133720"/>
              <a:gd name="textAreaBottom" fmla="*/ 2052000 h 2133720"/>
            </a:gdLst>
            <a:ahLst/>
            <a:rect l="textAreaLeft" t="textAreaTop" r="textAreaRight" b="textAreaBottom"/>
            <a:pathLst>
              <a:path w="21600" h="27495">
                <a:moveTo>
                  <a:pt x="3600" y="0"/>
                </a:moveTo>
                <a:arcTo wR="3600" hR="3600" stAng="16200000" swAng="-5400000"/>
                <a:lnTo>
                  <a:pt x="0" y="23895"/>
                </a:lnTo>
                <a:arcTo wR="3600" hR="3600" stAng="10800000" swAng="-5400000"/>
                <a:lnTo>
                  <a:pt x="18000" y="2749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362320" y="5867280"/>
            <a:ext cx="167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895480" y="5829480"/>
            <a:ext cx="77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52480" y="2209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041200">
            <a:off x="2871360" y="3536640"/>
            <a:ext cx="760320" cy="217440"/>
          </a:xfrm>
          <a:custGeom>
            <a:avLst/>
            <a:gdLst>
              <a:gd name="textAreaLeft" fmla="*/ 118800 w 760320"/>
              <a:gd name="textAreaRight" fmla="*/ 665280 w 760320"/>
              <a:gd name="textAreaTop" fmla="*/ 54360 h 217440"/>
              <a:gd name="textAreaBottom" fmla="*/ 163080 h 217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809880" y="4191120"/>
            <a:ext cx="609840" cy="228600"/>
          </a:xfrm>
          <a:custGeom>
            <a:avLst/>
            <a:gdLst/>
            <a:ahLst/>
            <a:rect l="l" t="t" r="r" b="b"/>
            <a:pathLst>
              <a:path w="384" h="144">
                <a:moveTo>
                  <a:pt x="0" y="0"/>
                </a:moveTo>
                <a:cubicBezTo>
                  <a:pt x="192" y="36"/>
                  <a:pt x="384" y="72"/>
                  <a:pt x="384" y="96"/>
                </a:cubicBezTo>
                <a:cubicBezTo>
                  <a:pt x="384" y="120"/>
                  <a:pt x="192" y="132"/>
                  <a:pt x="0" y="14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69080" y="53211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09680" y="1752480"/>
            <a:ext cx="1447920" cy="1447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89548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29080" y="2857680"/>
            <a:ext cx="72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.2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Document"/>
          <p:cNvSpPr/>
          <p:nvPr/>
        </p:nvSpPr>
        <p:spPr>
          <a:xfrm>
            <a:off x="2514600" y="4343400"/>
            <a:ext cx="685800" cy="6764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38280" y="44956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01720" y="2514600"/>
            <a:ext cx="9144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1766880"/>
            <a:ext cx="1371600" cy="762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06440" y="17780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4600" y="22604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.1.5 or 5.1.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0880" y="23004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15Z</dcterms:modified>
  <cp:revision>154</cp:revision>
  <dc:subject/>
  <dc:title>Slide 1</dc:title>
</cp:coreProperties>
</file>