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BE0378-4F2D-4C77-9B3B-9EC07350F0E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BE344-9F65-41D4-B8B8-F857042063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984B4A-FBCC-463C-B8E3-3B0B9AF67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1CA92C-0BAC-476D-B75D-70CBB6B764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FAB96-A414-47D9-BD61-A5CCC045B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420A0-C5E0-47E6-8807-CDE9EB1C6E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465F9-98A6-404E-9A81-6A5DA58DBF1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E3D7D-CDCF-4F7D-B95B-3385E097BF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9A176E-4AD7-428F-8A21-C8D87C3E62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6EDD3-C8E9-4DD3-9303-693C03E751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78ECBE-DED2-4D69-92FC-C18E314E86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A9868-4BCC-4F75-AAF8-272E19CC64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D314F-6EB2-43E3-86EC-B6FA5258F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093680" y="1733400"/>
            <a:ext cx="312840" cy="495360"/>
            <a:chOff x="1093680" y="1733400"/>
            <a:chExt cx="312840" cy="495360"/>
          </a:xfrm>
        </p:grpSpPr>
        <p:sp>
          <p:nvSpPr>
            <p:cNvPr id="41" name=""/>
            <p:cNvSpPr/>
            <p:nvPr/>
          </p:nvSpPr>
          <p:spPr>
            <a:xfrm>
              <a:off x="1171800" y="1733400"/>
              <a:ext cx="15624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249920" y="187488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3220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249920" y="208728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093680" y="1981080"/>
              <a:ext cx="312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758960" y="1666800"/>
            <a:ext cx="1127160" cy="878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797120" y="1728720"/>
            <a:ext cx="1063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82880" y="2038320"/>
            <a:ext cx="523800" cy="6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758960" y="2333520"/>
            <a:ext cx="11271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84400" y="2297160"/>
            <a:ext cx="5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376280" y="1914480"/>
            <a:ext cx="3762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1352520"/>
            <a:ext cx="2743200" cy="13716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200" y="2266920"/>
            <a:ext cx="990720" cy="304920"/>
          </a:xfrm>
          <a:custGeom>
            <a:avLst/>
            <a:gdLst>
              <a:gd name="textAreaLeft" fmla="*/ 154800 w 990720"/>
              <a:gd name="textAreaRight" fmla="*/ 866880 w 99072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83240" y="1905120"/>
            <a:ext cx="1127160" cy="8776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21400" y="2054160"/>
            <a:ext cx="106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one-Signing Oper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872320" y="2535120"/>
            <a:ext cx="63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5591160" y="2572920"/>
            <a:ext cx="1100160" cy="1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Document"/>
          <p:cNvSpPr/>
          <p:nvPr/>
        </p:nvSpPr>
        <p:spPr>
          <a:xfrm>
            <a:off x="4651200" y="4179960"/>
            <a:ext cx="463680" cy="449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10160" y="4192560"/>
            <a:ext cx="5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igned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3822840" y="4446720"/>
            <a:ext cx="312480" cy="501480"/>
            <a:chOff x="3822840" y="4446720"/>
            <a:chExt cx="312480" cy="501480"/>
          </a:xfrm>
        </p:grpSpPr>
        <p:sp>
          <p:nvSpPr>
            <p:cNvPr id="61" name=""/>
            <p:cNvSpPr/>
            <p:nvPr/>
          </p:nvSpPr>
          <p:spPr>
            <a:xfrm>
              <a:off x="3900960" y="4446720"/>
              <a:ext cx="155880" cy="143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979080" y="4590000"/>
              <a:ext cx="0" cy="21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386136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979080" y="4804920"/>
              <a:ext cx="117000" cy="143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822840" y="469728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"/>
          <p:cNvSpPr/>
          <p:nvPr/>
        </p:nvSpPr>
        <p:spPr>
          <a:xfrm flipH="1">
            <a:off x="4088880" y="4408560"/>
            <a:ext cx="5590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5224320"/>
            <a:ext cx="1127160" cy="87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67160" y="5361120"/>
            <a:ext cx="1063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load the Z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24320" y="5905440"/>
            <a:ext cx="1138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38440" y="586908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1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75120" y="4929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7335720" y="2031840"/>
            <a:ext cx="293760" cy="58752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7467480" y="2133720"/>
            <a:ext cx="68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6725880" y="22860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39680" y="201924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33520" y="471600"/>
            <a:ext cx="830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ency KSK Roll-O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3456000" y="1687680"/>
            <a:ext cx="295200" cy="58716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693960" y="1847880"/>
            <a:ext cx="295560" cy="58752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394080" y="1459080"/>
            <a:ext cx="636480" cy="106668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700440" y="237348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ubl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911320" y="1535040"/>
            <a:ext cx="689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iva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4721400" y="2144880"/>
            <a:ext cx="312480" cy="495000"/>
            <a:chOff x="4721400" y="2144880"/>
            <a:chExt cx="312480" cy="495000"/>
          </a:xfrm>
        </p:grpSpPr>
        <p:sp>
          <p:nvSpPr>
            <p:cNvPr id="83" name=""/>
            <p:cNvSpPr/>
            <p:nvPr/>
          </p:nvSpPr>
          <p:spPr>
            <a:xfrm>
              <a:off x="4799520" y="2144880"/>
              <a:ext cx="155880" cy="1414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7640" y="2286360"/>
              <a:ext cx="0" cy="21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75992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877640" y="2498400"/>
              <a:ext cx="11700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721400" y="2392200"/>
              <a:ext cx="312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886200" y="2955960"/>
            <a:ext cx="295200" cy="5875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5046840" y="2297160"/>
            <a:ext cx="533160" cy="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8600" y="1763640"/>
            <a:ext cx="1828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67200" y="2144880"/>
            <a:ext cx="774720" cy="17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4191120" y="2436840"/>
            <a:ext cx="550800" cy="53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00400" y="325764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ZSK public ke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4686480" y="2673000"/>
            <a:ext cx="156960" cy="351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Document"/>
          <p:cNvSpPr/>
          <p:nvPr/>
        </p:nvSpPr>
        <p:spPr>
          <a:xfrm>
            <a:off x="4406760" y="3029040"/>
            <a:ext cx="563760" cy="54936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354560" y="3062160"/>
            <a:ext cx="69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Unsigned Zone F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5054760" y="2743200"/>
            <a:ext cx="583920" cy="1411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54280" y="566568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664240" y="3441600"/>
            <a:ext cx="1295280" cy="1067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664240" y="42544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21440" y="42591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778360" y="3568680"/>
            <a:ext cx="106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ecure Delegation – Parent Zone Activit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5400000">
            <a:off x="6084000" y="2919960"/>
            <a:ext cx="406440" cy="249120"/>
          </a:xfrm>
          <a:custGeom>
            <a:avLst/>
            <a:gdLst>
              <a:gd name="textAreaLeft" fmla="*/ 63360 w 406440"/>
              <a:gd name="textAreaRight" fmla="*/ 355680 w 406440"/>
              <a:gd name="textAreaTop" fmla="*/ 62280 h 249120"/>
              <a:gd name="textAreaBottom" fmla="*/ 186840 h 249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587920" y="3314880"/>
            <a:ext cx="1447920" cy="1904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664240" y="464832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nt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3:07Z</dcterms:modified>
  <cp:revision>154</cp:revision>
  <dc:subject/>
  <dc:title>Slide 1</dc:title>
</cp:coreProperties>
</file>