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A2FD3B-2D84-4989-AFE3-6990036D31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78677-C047-464E-87D5-087C9A778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E7B91-F725-46BF-AAF4-1EABEC643C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D4A02-FA5D-4368-B4C4-E39F517E153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231EA-B837-4B38-A69D-5BD86BB61A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7FD655-7725-4AE1-9DE4-914FFAAEA3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963CD-117A-4C37-92B2-C0241E8F44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0A274-C65C-45AD-8A6F-5B3AB1066B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35887-B677-4467-9D0E-5AF51CAEEE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7D49A-A627-44D8-BE72-69068A6EFF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3E365-4D48-4F53-8135-E1FD8788BFF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CD877-D81A-4FB2-A986-1EE985A1D4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4DFE1-C1CC-4108-95D0-F8066A6757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2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1"/>
          <a:stretch/>
        </p:blipFill>
        <p:spPr>
          <a:xfrm>
            <a:off x="5468760" y="2612880"/>
            <a:ext cx="295560" cy="587520"/>
          </a:xfrm>
          <a:prstGeom prst="rect">
            <a:avLst/>
          </a:prstGeom>
          <a:ln w="0">
            <a:noFill/>
          </a:ln>
        </p:spPr>
      </p:pic>
      <p:grpSp>
        <p:nvGrpSpPr>
          <p:cNvPr id="41" name=""/>
          <p:cNvGrpSpPr/>
          <p:nvPr/>
        </p:nvGrpSpPr>
        <p:grpSpPr>
          <a:xfrm>
            <a:off x="1824120" y="1422360"/>
            <a:ext cx="312480" cy="495360"/>
            <a:chOff x="1824120" y="1422360"/>
            <a:chExt cx="312480" cy="495360"/>
          </a:xfrm>
        </p:grpSpPr>
        <p:sp>
          <p:nvSpPr>
            <p:cNvPr id="42" name=""/>
            <p:cNvSpPr/>
            <p:nvPr/>
          </p:nvSpPr>
          <p:spPr>
            <a:xfrm>
              <a:off x="1902240" y="142236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980360" y="156384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86264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80360" y="177624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24120" y="167004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2590920" y="122868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629080" y="129060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438800" y="1295280"/>
            <a:ext cx="295200" cy="587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4676760" y="145584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701880" y="1600200"/>
            <a:ext cx="7146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190800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890800" y="187164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31920" y="1616040"/>
            <a:ext cx="46512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4680" y="1066680"/>
            <a:ext cx="547920" cy="106704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45080" y="19810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32280" y="114300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432160" y="91440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11040" y="1587600"/>
            <a:ext cx="1295640" cy="304560"/>
          </a:xfrm>
          <a:custGeom>
            <a:avLst/>
            <a:gdLst>
              <a:gd name="textAreaLeft" fmla="*/ 202320 w 1295640"/>
              <a:gd name="textAreaRight" fmla="*/ 1134000 w 129564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90360"/>
            <a:ext cx="830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SK Roll-Over – Double-Signature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703840" y="1752480"/>
            <a:ext cx="312840" cy="495360"/>
            <a:chOff x="5703840" y="1752480"/>
            <a:chExt cx="312840" cy="495360"/>
          </a:xfrm>
        </p:grpSpPr>
        <p:sp>
          <p:nvSpPr>
            <p:cNvPr id="62" name=""/>
            <p:cNvSpPr/>
            <p:nvPr/>
          </p:nvSpPr>
          <p:spPr>
            <a:xfrm>
              <a:off x="5781960" y="175248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5860080" y="18939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574236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860080" y="210636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703840" y="200016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" name="" descr=""/>
          <p:cNvPicPr/>
          <p:nvPr/>
        </p:nvPicPr>
        <p:blipFill>
          <a:blip r:embed="rId4"/>
          <a:stretch/>
        </p:blipFill>
        <p:spPr>
          <a:xfrm>
            <a:off x="5268960" y="2563920"/>
            <a:ext cx="295200" cy="5871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550200" y="1467000"/>
            <a:ext cx="112680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575400" y="160344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77080" y="210996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558120" y="2146320"/>
            <a:ext cx="11127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8302680" y="85716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8531280" y="93348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ld K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Document"/>
          <p:cNvSpPr/>
          <p:nvPr/>
        </p:nvSpPr>
        <p:spPr>
          <a:xfrm>
            <a:off x="6603840" y="78120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62800" y="870120"/>
            <a:ext cx="57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S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Document"/>
          <p:cNvSpPr/>
          <p:nvPr/>
        </p:nvSpPr>
        <p:spPr>
          <a:xfrm>
            <a:off x="7230960" y="78120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178760" y="87012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8469360" y="2685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415360" y="26989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7958160" y="2990880"/>
            <a:ext cx="312840" cy="501480"/>
            <a:chOff x="7958160" y="2990880"/>
            <a:chExt cx="312840" cy="501480"/>
          </a:xfrm>
        </p:grpSpPr>
        <p:sp>
          <p:nvSpPr>
            <p:cNvPr id="81" name=""/>
            <p:cNvSpPr/>
            <p:nvPr/>
          </p:nvSpPr>
          <p:spPr>
            <a:xfrm>
              <a:off x="8036280" y="29908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114400" y="31341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99668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8114400" y="334908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958160" y="324144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" name=""/>
          <p:cNvSpPr/>
          <p:nvPr/>
        </p:nvSpPr>
        <p:spPr>
          <a:xfrm flipH="1">
            <a:off x="7692840" y="1162080"/>
            <a:ext cx="60948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991120" y="1955880"/>
            <a:ext cx="55908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784760" y="1359000"/>
            <a:ext cx="1765440" cy="24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 flipV="1">
            <a:off x="685476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388280" y="123804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108920" y="2362320"/>
            <a:ext cx="134604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8186400" y="283860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577280" y="37688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02480" y="3981600"/>
            <a:ext cx="106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585200" y="4449600"/>
            <a:ext cx="1100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877160" y="440064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110440" y="3460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950000" y="1739880"/>
            <a:ext cx="787320" cy="22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6"/>
          <a:stretch/>
        </p:blipFill>
        <p:spPr>
          <a:xfrm>
            <a:off x="7927920" y="5033880"/>
            <a:ext cx="412920" cy="976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7616880" y="60357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Wait Two Max Zone TTL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53240" y="4971960"/>
            <a:ext cx="939960" cy="1733760"/>
          </a:xfrm>
          <a:custGeom>
            <a:avLst/>
            <a:gdLst>
              <a:gd name="textAreaLeft" fmla="*/ 45720 w 939960"/>
              <a:gd name="textAreaRight" fmla="*/ 894240 w 939960"/>
              <a:gd name="textAreaTop" fmla="*/ 45720 h 1733760"/>
              <a:gd name="textAreaBottom" fmla="*/ 1688040 h 1733760"/>
            </a:gdLst>
            <a:ahLst/>
            <a:rect l="textAreaLeft" t="textAreaTop" r="textAreaRight" b="textAreaBottom"/>
            <a:pathLst>
              <a:path w="21600" h="39834">
                <a:moveTo>
                  <a:pt x="3600" y="0"/>
                </a:moveTo>
                <a:arcTo wR="3600" hR="3600" stAng="16200000" swAng="-5400000"/>
                <a:lnTo>
                  <a:pt x="0" y="36234"/>
                </a:lnTo>
                <a:arcTo wR="3600" hR="3600" stAng="10800000" swAng="-5400000"/>
                <a:lnTo>
                  <a:pt x="18000" y="3983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53240" y="6458040"/>
            <a:ext cx="939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96240" y="644220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10440" y="466740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968640" y="49705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019400" y="5132520"/>
            <a:ext cx="10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257720" y="5600880"/>
            <a:ext cx="63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76560" y="5637240"/>
            <a:ext cx="1100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97360" y="2120760"/>
            <a:ext cx="155520" cy="204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4941720" y="4122720"/>
            <a:ext cx="312840" cy="495360"/>
            <a:chOff x="4941720" y="4122720"/>
            <a:chExt cx="312840" cy="495360"/>
          </a:xfrm>
        </p:grpSpPr>
        <p:sp>
          <p:nvSpPr>
            <p:cNvPr id="111" name=""/>
            <p:cNvSpPr/>
            <p:nvPr/>
          </p:nvSpPr>
          <p:spPr>
            <a:xfrm>
              <a:off x="5019840" y="412272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097960" y="426420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498024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097960" y="44766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41720" y="43704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 flipH="1">
            <a:off x="4800240" y="4495680"/>
            <a:ext cx="15228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94320" y="1905120"/>
            <a:ext cx="3240" cy="306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486400" y="2133720"/>
            <a:ext cx="22860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cument"/>
          <p:cNvSpPr/>
          <p:nvPr/>
        </p:nvSpPr>
        <p:spPr>
          <a:xfrm>
            <a:off x="6531120" y="4049640"/>
            <a:ext cx="56340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478560" y="41133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7"/>
          <a:stretch/>
        </p:blipFill>
        <p:spPr>
          <a:xfrm>
            <a:off x="8302680" y="161928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8547120" y="169560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7692840" y="18478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5487840" y="4656240"/>
            <a:ext cx="293760" cy="587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578560" y="491004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271840" y="4307040"/>
            <a:ext cx="1244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5192280" y="3227400"/>
            <a:ext cx="304920" cy="88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611680" y="2971800"/>
            <a:ext cx="838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 keys  (ZSK and old KSK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1760600">
            <a:off x="5095800" y="5603040"/>
            <a:ext cx="2362320" cy="381240"/>
          </a:xfrm>
          <a:custGeom>
            <a:avLst/>
            <a:gdLst>
              <a:gd name="textAreaLeft" fmla="*/ 369000 w 2362320"/>
              <a:gd name="textAreaRight" fmla="*/ 2067120 w 236232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6032160" y="2158560"/>
            <a:ext cx="787320" cy="189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068800" y="4973760"/>
            <a:ext cx="45720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rot="17156400">
            <a:off x="4858200" y="342036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nly  include the ZS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00160" y="131436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Document"/>
          <p:cNvSpPr/>
          <p:nvPr/>
        </p:nvSpPr>
        <p:spPr>
          <a:xfrm>
            <a:off x="3468600" y="398772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414600" y="398772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44840" y="24382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4203720" y="3962520"/>
            <a:ext cx="312840" cy="501480"/>
            <a:chOff x="4203720" y="3962520"/>
            <a:chExt cx="312840" cy="501480"/>
          </a:xfrm>
        </p:grpSpPr>
        <p:sp>
          <p:nvSpPr>
            <p:cNvPr id="138" name=""/>
            <p:cNvSpPr/>
            <p:nvPr/>
          </p:nvSpPr>
          <p:spPr>
            <a:xfrm>
              <a:off x="4281840" y="396252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59960" y="41058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24224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359960" y="43207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203720" y="4213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3216240" y="275904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54400" y="293364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211560" y="3452760"/>
            <a:ext cx="1125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508200" y="3429000"/>
            <a:ext cx="61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Document"/>
          <p:cNvSpPr/>
          <p:nvPr/>
        </p:nvSpPr>
        <p:spPr>
          <a:xfrm>
            <a:off x="2757600" y="5410080"/>
            <a:ext cx="46512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05040" y="5486400"/>
            <a:ext cx="573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se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3276720" y="5334120"/>
            <a:ext cx="6969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2324160" y="5410080"/>
            <a:ext cx="312840" cy="501840"/>
            <a:chOff x="2324160" y="5410080"/>
            <a:chExt cx="312840" cy="501840"/>
          </a:xfrm>
        </p:grpSpPr>
        <p:sp>
          <p:nvSpPr>
            <p:cNvPr id="151" name=""/>
            <p:cNvSpPr/>
            <p:nvPr/>
          </p:nvSpPr>
          <p:spPr>
            <a:xfrm>
              <a:off x="2402280" y="5410080"/>
              <a:ext cx="15624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480400" y="555336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36268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480400" y="576864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24160" y="566100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171880" y="5105520"/>
            <a:ext cx="129528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71880" y="60958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40160" y="6083280"/>
            <a:ext cx="72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.5.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rot="9499800">
            <a:off x="3506760" y="5574960"/>
            <a:ext cx="380880" cy="304920"/>
          </a:xfrm>
          <a:custGeom>
            <a:avLst/>
            <a:gdLst>
              <a:gd name="textAreaLeft" fmla="*/ 59400 w 380880"/>
              <a:gd name="textAreaRight" fmla="*/ 333360 w 3808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3897000" y="4495680"/>
            <a:ext cx="1522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3962160" y="4076640"/>
            <a:ext cx="266760" cy="38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3733920" y="3645000"/>
            <a:ext cx="0" cy="342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rot="17400000">
            <a:off x="2324520" y="4183560"/>
            <a:ext cx="1338480" cy="304920"/>
          </a:xfrm>
          <a:custGeom>
            <a:avLst/>
            <a:gdLst>
              <a:gd name="textAreaLeft" fmla="*/ 209160 w 1338480"/>
              <a:gd name="textAreaRight" fmla="*/ 1171440 w 133848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3040" y="5181480"/>
            <a:ext cx="114300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3040" y="6019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6880" y="598644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41200" y="533412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600200" y="563868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3120" y="6324480"/>
            <a:ext cx="1295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cure exchange of the keyset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1828800" y="5867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3360" y="4788000"/>
            <a:ext cx="1447920" cy="18795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3080" y="63500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2:49Z</dcterms:modified>
  <cp:revision>154</cp:revision>
  <dc:subject/>
  <dc:title>Slide 1</dc:title>
</cp:coreProperties>
</file>