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11CE1-DC8A-4348-BE1C-6DFB053375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71EE5-764B-4F44-8702-20A23392116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084149-47ED-4EF0-9F33-8782BFA9A0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42937-7843-4860-B5A1-D3C79652C0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C7D11-9B4F-4C01-B0AF-9E879880AB4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613A-908F-41B6-AD19-99A686C71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24B1C-25E3-4A4E-BCC1-5A27FC782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88D510-5F4A-48B3-AF6E-AE5F749ED9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2B1E63-0A82-472A-90E7-FE8251BA29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E42D-A670-40B6-BB20-7AB6DAFD4D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ECEED-B31D-45AD-B92A-0B2AC155C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136B4-377D-4D63-B340-62F9F9CF3A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77CE6-E5AA-4F35-88D6-7D97DD1E5A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317520" y="2781360"/>
            <a:ext cx="380880" cy="609120"/>
            <a:chOff x="317520" y="27813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412560" y="27813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507960" y="29552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6504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507960" y="32166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17520" y="30859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295280" y="2590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333440" y="266688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895560" y="28321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765440" y="336852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286080" y="4102200"/>
            <a:ext cx="358920" cy="72216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314280" y="4116240"/>
            <a:ext cx="380880" cy="609840"/>
            <a:chOff x="314280" y="4116240"/>
            <a:chExt cx="380880" cy="609840"/>
          </a:xfrm>
        </p:grpSpPr>
        <p:sp>
          <p:nvSpPr>
            <p:cNvPr id="52" name=""/>
            <p:cNvSpPr/>
            <p:nvPr/>
          </p:nvSpPr>
          <p:spPr>
            <a:xfrm>
              <a:off x="409320" y="41162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4720" y="42904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6180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04720" y="45518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4280" y="44211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317600" y="3886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17600" y="396252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895560" y="4089240"/>
            <a:ext cx="358920" cy="722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65440" y="46623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4"/>
          <a:stretch/>
        </p:blipFill>
        <p:spPr>
          <a:xfrm>
            <a:off x="3286080" y="281952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2666880" y="3048120"/>
            <a:ext cx="58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692440" y="4343400"/>
            <a:ext cx="520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49160" y="302256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8400" y="43434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410080" y="33670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448240" y="3390840"/>
            <a:ext cx="1295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00400" y="25146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67160" y="49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3276720" y="5487840"/>
            <a:ext cx="380880" cy="609840"/>
            <a:chOff x="3276720" y="5487840"/>
            <a:chExt cx="380880" cy="609840"/>
          </a:xfrm>
        </p:grpSpPr>
        <p:sp>
          <p:nvSpPr>
            <p:cNvPr id="71" name=""/>
            <p:cNvSpPr/>
            <p:nvPr/>
          </p:nvSpPr>
          <p:spPr>
            <a:xfrm>
              <a:off x="3371760" y="548784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67160" y="566208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332424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67160" y="592344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276720" y="57927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Document"/>
          <p:cNvSpPr/>
          <p:nvPr/>
        </p:nvSpPr>
        <p:spPr>
          <a:xfrm>
            <a:off x="1714680" y="539604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413080" y="5689440"/>
            <a:ext cx="812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676520" y="545940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477120" y="527220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400800" y="5272200"/>
            <a:ext cx="83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ecked Zone File (with key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3683160" y="5689080"/>
            <a:ext cx="11937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09880" y="2529000"/>
            <a:ext cx="533520" cy="24382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876920" y="5119560"/>
            <a:ext cx="11430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19920" y="54626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48320" y="3124080"/>
            <a:ext cx="2895480" cy="3367080"/>
          </a:xfrm>
          <a:custGeom>
            <a:avLst/>
            <a:gdLst>
              <a:gd name="textAreaLeft" fmla="*/ 141120 w 2895480"/>
              <a:gd name="textAreaRight" fmla="*/ 2754360 w 2895480"/>
              <a:gd name="textAreaTop" fmla="*/ 141120 h 3367080"/>
              <a:gd name="textAreaBottom" fmla="*/ 3225960 h 3367080"/>
            </a:gdLst>
            <a:ahLst/>
            <a:rect l="textAreaLeft" t="textAreaTop" r="textAreaRight" b="textAreaBottom"/>
            <a:pathLst>
              <a:path w="21600" h="25118">
                <a:moveTo>
                  <a:pt x="3600" y="0"/>
                </a:moveTo>
                <a:arcTo wR="3600" hR="3600" stAng="16200000" swAng="-5400000"/>
                <a:lnTo>
                  <a:pt x="0" y="21518"/>
                </a:lnTo>
                <a:arcTo wR="3600" hR="3600" stAng="10800000" swAng="-5400000"/>
                <a:lnTo>
                  <a:pt x="18000" y="251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829480" y="61466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00600" y="512280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eck Zone for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6324480" y="4343400"/>
            <a:ext cx="381240" cy="609120"/>
            <a:chOff x="6324480" y="4343400"/>
            <a:chExt cx="381240" cy="609120"/>
          </a:xfrm>
        </p:grpSpPr>
        <p:sp>
          <p:nvSpPr>
            <p:cNvPr id="89" name=""/>
            <p:cNvSpPr/>
            <p:nvPr/>
          </p:nvSpPr>
          <p:spPr>
            <a:xfrm>
              <a:off x="6419880" y="434340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514920" y="451728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637164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514920" y="477864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24480" y="464796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 flipH="1" flipV="1">
            <a:off x="6108480" y="4127040"/>
            <a:ext cx="215640" cy="368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07040" y="561492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1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842080" y="3860640"/>
            <a:ext cx="63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.2.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443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320840" y="473868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673520" y="6172200"/>
            <a:ext cx="28321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565308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410080" y="3900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781680" y="3962520"/>
            <a:ext cx="12956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4038480"/>
            <a:ext cx="12956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24080" y="2209680"/>
            <a:ext cx="7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33920" y="22096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5116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60640" y="351792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5116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860640" y="3819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343400" y="38098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ocument"/>
          <p:cNvSpPr/>
          <p:nvPr/>
        </p:nvSpPr>
        <p:spPr>
          <a:xfrm>
            <a:off x="6019920" y="3049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981760" y="39384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cument"/>
          <p:cNvSpPr/>
          <p:nvPr/>
        </p:nvSpPr>
        <p:spPr>
          <a:xfrm>
            <a:off x="6095880" y="21337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58080" y="2158920"/>
            <a:ext cx="761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’s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6934320" y="380880"/>
            <a:ext cx="380880" cy="609840"/>
            <a:chOff x="6934320" y="380880"/>
            <a:chExt cx="380880" cy="609840"/>
          </a:xfrm>
        </p:grpSpPr>
        <p:sp>
          <p:nvSpPr>
            <p:cNvPr id="116" name=""/>
            <p:cNvSpPr/>
            <p:nvPr/>
          </p:nvSpPr>
          <p:spPr>
            <a:xfrm>
              <a:off x="7029360" y="380880"/>
              <a:ext cx="190080" cy="174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124760" y="5551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698184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124760" y="8164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934320" y="6858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6934320" y="2209680"/>
            <a:ext cx="380880" cy="609840"/>
            <a:chOff x="6934320" y="2209680"/>
            <a:chExt cx="380880" cy="609840"/>
          </a:xfrm>
        </p:grpSpPr>
        <p:sp>
          <p:nvSpPr>
            <p:cNvPr id="122" name=""/>
            <p:cNvSpPr/>
            <p:nvPr/>
          </p:nvSpPr>
          <p:spPr>
            <a:xfrm>
              <a:off x="702936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12476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69818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12476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93432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6400800" y="283212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010280" y="1066680"/>
            <a:ext cx="228600" cy="1067040"/>
          </a:xfrm>
          <a:prstGeom prst="upDownArrow">
            <a:avLst>
              <a:gd name="adj1" fmla="val 50000"/>
              <a:gd name="adj2" fmla="val 9292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143208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718320" y="4774680"/>
            <a:ext cx="13968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781680" y="36576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320" y="685800"/>
            <a:ext cx="4724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one Signing with Secured Child Deleg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670880" y="16524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2286000"/>
            <a:ext cx="15238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lue or location is given as command line arguments to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dnssec_sign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2971800"/>
            <a:ext cx="0" cy="80028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17640" y="6197760"/>
            <a:ext cx="152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 public keys in zo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867280" y="2819520"/>
            <a:ext cx="533520" cy="22860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692760" y="167652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Document"/>
          <p:cNvSpPr/>
          <p:nvPr/>
        </p:nvSpPr>
        <p:spPr>
          <a:xfrm>
            <a:off x="8077320" y="510552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051760" y="5105520"/>
            <a:ext cx="7621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Document"/>
          <p:cNvSpPr/>
          <p:nvPr/>
        </p:nvSpPr>
        <p:spPr>
          <a:xfrm>
            <a:off x="8077320" y="3200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039160" y="3276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ocument"/>
          <p:cNvSpPr/>
          <p:nvPr/>
        </p:nvSpPr>
        <p:spPr>
          <a:xfrm>
            <a:off x="8077320" y="4191120"/>
            <a:ext cx="685800" cy="676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39160" y="426708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94440" y="152280"/>
            <a:ext cx="3504960" cy="12193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59Z</dcterms:modified>
  <cp:revision>154</cp:revision>
  <dc:subject/>
  <dc:title>Slide 1</dc:title>
</cp:coreProperties>
</file>