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B42AF-4403-4CB9-8D00-4F8E4464CF0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E3DE6-701B-45F7-8777-81D48F2F01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0C758-1AFE-44FF-AD4E-DA48861857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1F103-396A-416C-A31B-FFABEE9C16E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CC2F2-E478-4285-956A-CF674E725C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D0F18-4C80-4413-A2F3-37AB280D86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FA682-0A93-4AD2-98EB-DCE50323F8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A32BA3-ACD1-49C3-AE1B-36C20BB6BE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D3E3D-E27C-4815-9A2C-C8FDB1956A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E52EBA-D088-4DC7-AF25-23AF512508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443061-27FB-4291-A918-1B20303E6F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AEBCE2-A735-4ABC-B251-30B8D0D27D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CAE7-264E-4BF9-B2FE-93A87141D3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838080" y="336852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812880" y="34574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727280" y="3419640"/>
            <a:ext cx="380880" cy="609120"/>
            <a:chOff x="1727280" y="341964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1822320" y="341964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917720" y="359352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77480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917720" y="385488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727280" y="37242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876240" y="472428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ild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Document"/>
          <p:cNvSpPr/>
          <p:nvPr/>
        </p:nvSpPr>
        <p:spPr>
          <a:xfrm>
            <a:off x="3886200" y="344484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60640" y="3495600"/>
            <a:ext cx="762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 (from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3352680" y="3508200"/>
            <a:ext cx="381240" cy="609840"/>
            <a:chOff x="3352680" y="3508200"/>
            <a:chExt cx="381240" cy="609840"/>
          </a:xfrm>
        </p:grpSpPr>
        <p:sp>
          <p:nvSpPr>
            <p:cNvPr id="52" name=""/>
            <p:cNvSpPr/>
            <p:nvPr/>
          </p:nvSpPr>
          <p:spPr>
            <a:xfrm>
              <a:off x="3448080" y="3508200"/>
              <a:ext cx="19044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543120" y="368244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39984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543120" y="3943800"/>
              <a:ext cx="14292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352680" y="381312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286000" y="3429000"/>
            <a:ext cx="914400" cy="244440"/>
          </a:xfrm>
          <a:prstGeom prst="leftRightArrow">
            <a:avLst>
              <a:gd name="adj1" fmla="val 50000"/>
              <a:gd name="adj2" fmla="val 7446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84480" y="236232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819520" y="279396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53352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Parent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2767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79960" y="34322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62560" y="4052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32440" y="410364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48320" y="38098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Document"/>
          <p:cNvSpPr/>
          <p:nvPr/>
        </p:nvSpPr>
        <p:spPr>
          <a:xfrm>
            <a:off x="7086600" y="4343400"/>
            <a:ext cx="685800" cy="838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23240" y="4330800"/>
            <a:ext cx="82548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ed Zone File (with child’s D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Document"/>
          <p:cNvSpPr/>
          <p:nvPr/>
        </p:nvSpPr>
        <p:spPr>
          <a:xfrm>
            <a:off x="7086600" y="243828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035840" y="252720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Document"/>
          <p:cNvSpPr/>
          <p:nvPr/>
        </p:nvSpPr>
        <p:spPr>
          <a:xfrm>
            <a:off x="7086600" y="34290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048440" y="35305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400800" y="304776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00800" y="3809880"/>
            <a:ext cx="67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3962520"/>
            <a:ext cx="68580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05520" y="502920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18120" y="517212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load the 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08400" y="5856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448240" y="5803920"/>
            <a:ext cx="69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4343040" y="56134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5257800"/>
            <a:ext cx="685800" cy="76212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81280" y="5435640"/>
            <a:ext cx="83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200400" y="56134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48120" y="5537160"/>
            <a:ext cx="15228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715000" y="2209680"/>
            <a:ext cx="380880" cy="609840"/>
            <a:chOff x="5715000" y="2209680"/>
            <a:chExt cx="380880" cy="609840"/>
          </a:xfrm>
        </p:grpSpPr>
        <p:sp>
          <p:nvSpPr>
            <p:cNvPr id="85" name=""/>
            <p:cNvSpPr/>
            <p:nvPr/>
          </p:nvSpPr>
          <p:spPr>
            <a:xfrm>
              <a:off x="5810040" y="22096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05440" y="23839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76252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05440" y="26452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15000" y="25146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Document"/>
          <p:cNvSpPr/>
          <p:nvPr/>
        </p:nvSpPr>
        <p:spPr>
          <a:xfrm>
            <a:off x="4267080" y="1981080"/>
            <a:ext cx="990720" cy="828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57800" y="2362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6320" y="1968480"/>
            <a:ext cx="10670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nsigned Parent Zone File (containing delegation to chil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05440" y="2895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477120" y="1371600"/>
            <a:ext cx="358560" cy="722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324480" y="137160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 flipH="1">
            <a:off x="6095520" y="207000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43880" y="1346040"/>
            <a:ext cx="9144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ublic keys at parent (ZSK and KS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2819520"/>
            <a:ext cx="167616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6858000" y="5410080"/>
            <a:ext cx="380880" cy="609840"/>
            <a:chOff x="6858000" y="5410080"/>
            <a:chExt cx="380880" cy="609840"/>
          </a:xfrm>
        </p:grpSpPr>
        <p:sp>
          <p:nvSpPr>
            <p:cNvPr id="100" name=""/>
            <p:cNvSpPr/>
            <p:nvPr/>
          </p:nvSpPr>
          <p:spPr>
            <a:xfrm>
              <a:off x="6953040" y="541008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048440" y="558432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90552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048440" y="584568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858000" y="571500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7200720" y="5257800"/>
            <a:ext cx="368280" cy="368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477120" y="56134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6720" y="3200400"/>
            <a:ext cx="144756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4267080"/>
            <a:ext cx="1447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70200" y="424188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4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26Z</dcterms:modified>
  <cp:revision>154</cp:revision>
  <dc:subject/>
  <dc:title>Slide 1</dc:title>
</cp:coreProperties>
</file>