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22B-606E-4397-9589-69A54CCD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336-7B46-481E-BF22-3321CAD8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4B786-F297-4B0F-879A-F65CB56A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0242F-3FE8-4F88-8C46-DBB7A8C6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2016A-519F-413B-99B7-C0FD0A46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8CB06-77F9-4E5F-8523-D9161017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2B778-B992-4B6C-83AF-7059F4CB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5772F-5F3E-4D39-A7BC-0DDCA8A0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CD6D4-95D2-4F71-93A0-F7503EED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7E9B7-6D17-4BE1-9D93-72A9EFA7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788E4-29AE-4C03-A6C7-456C1E7F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A97D55-83CC-495A-BA64-8472355D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FA9-B701-40A5-9128-E530BE3B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CE2B9D-6ED4-4F5D-AF0C-BA990FE4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30EDBA-4564-47F4-ACFC-614A871B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83235D-6CD7-49B7-AFF5-172B03D1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EDDF65-D93E-4371-81B5-4A49C65D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C2B4EC-4E2A-4155-A1EF-E8CF410B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C47094-8B84-48C7-A73D-5E726A66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35F5AD-EB6E-4986-B90A-2B79D622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9297E5-ADDB-4246-AF3E-BFD9A60F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24BD2A-65C6-4E82-A9FC-B7B3F447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2BE105-3858-458B-A213-2A507653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74E-C44C-4BC7-BB2F-69529EEA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477F7F-DAA5-4675-A775-15230E46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68E08-A2E5-40BC-AC63-C9D28106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57DF0-2D85-444A-A3AD-F6EF5E37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DBB7F-0635-48E7-A77E-B7043ED6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9C62E-9950-47F0-A458-DAF721FA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56EF6-DAE1-4EE4-9C45-AB2B8669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565B8-8906-4D1C-BF6E-C97F693C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C7BAB-9FB0-49F1-82A5-D3E0150A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4D6FD-97D1-48A7-85B5-2DA56E89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F1835-D960-4601-A092-683D2643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59BB-F935-486A-BF6E-C8202DDA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CAB24-70F0-4319-907D-AB3D5A4E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912E0-7286-4DFF-A9C9-EBA92C1E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43196-E31D-4D19-8DC9-9998CD6D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4E6FA-B282-42E4-AB4B-FB0E54C3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9EB31-15C6-4815-8D6B-411E4331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7C420-C3D5-47B0-AE09-69E222BC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89B3E-9F48-4A3D-8B57-2FF06C0C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6CF3E-4981-41BE-9A68-470B6113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C9971-F77E-40FE-B4E6-26468259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E5125-9F16-4836-9EC9-1392D86D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24A7-DAA7-4DB4-AAE1-934CBAB4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B20D3-7F70-4E41-AB3A-D2D9C9B9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5B79A-43C9-4EDE-8F44-5D06B167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4987E-CFF4-47B8-AE83-008FA2B0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3FC37-47ED-4CD4-A354-85263CF6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6DCC7-4E0B-4AE3-8CDB-735E3904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654A-E235-414F-AA0E-6528E5F9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1AB1-7C7C-431D-82D5-B12E80BC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A92F-8C04-4E18-8817-80907A2F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45AB-C57F-41A0-8394-0E822F7F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F900-0BA5-468A-8C01-11E45D28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377-9028-47C5-BAD3-F1AAA63F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4130-3B8B-4E71-A412-26E37DE2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E250-F4A4-459B-85BA-CD4F0AE4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4626-FCE9-413A-A385-DE7F272A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959C-15C0-4321-A091-1E2CB1BE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AE41-5CCF-400E-A3A2-FE6000D3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787AF-2769-44B9-A603-71B0D752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FB758-6F4B-480B-9CC4-58661567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3C797-1A8F-40AF-9A2B-8B54C42A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5A6A5-6B09-4558-9FCE-13461CDC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FD7BB-8D94-466F-A167-B7CA87AC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FF3-7830-4F62-83BD-5C031F14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D3995-2816-45E4-A3FB-A88B66F0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77DD3-3C29-48F5-AC93-00DDC190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8D82-7FF0-401F-AC57-DF5B8BA4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6EA63-8DBE-41CA-9ED8-EB78AF9F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80BED-62B0-4291-BDF1-9F6426C1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D27C-A3CD-4CE9-8D38-AC7288B4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5CA8D-21D0-4DD4-858F-2F59A28C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1B35E-D6FC-4FFF-A41C-18582E97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66D63-E072-4704-B963-520736D9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EADBF-D5DE-49D4-BD75-EA2FC6EB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8C0-7BD9-435E-8F25-EC72137D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36EB3-26C9-4EDD-878A-8357726B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1C6EB-B31C-4716-9DE1-3191AD9E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79104-740E-4F4C-BB25-E6966B5F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F061-4F06-41B0-AF31-DF00423C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4C88D-B19A-429D-803A-1B450BA4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D52B1-F980-4CE4-B5B6-3CEEC887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1561D-E1F7-497E-B1C7-3B255296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24CF0-20B2-4672-AE40-93CDF499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44142-6521-4A22-8C39-850DFDCE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119F6-1E04-4993-B206-4BDB511C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0B1-2532-40E4-BCE1-D605F241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C82A7F-6EE9-4382-A900-52074640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790D1-E4D0-4E99-AF29-245897DF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03086-86E1-4717-9941-1E383DF5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C193E-1DB6-4D29-B624-CDC42CD4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ABCEF-800B-4E24-AB65-CC275AD1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1421D8-39F0-40B6-9BC2-66F78C8A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F35F7-014E-48F1-9517-96B5A8D7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C18A2-3ECD-4413-A32C-B9F48B1C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78706-9B52-476D-B2BC-15B9F780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0B5EE-7469-4743-8EE2-C42A6965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812-7505-4D59-98B8-4012C4A8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1EEEF-4A95-43A4-8B8F-89423EBF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6C5FF-D22F-4683-8962-427429A9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E59FE-C38E-4C51-9204-FC66BEA5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D37F9-DE46-44DA-8C37-46B618CA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45015-3098-4FB6-A79A-41552D9E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18A42-EB61-4CC7-B7D7-18B67B84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CACE3-F206-4EBF-8FDB-0D73D804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6FA79-9B53-44AC-8C98-F9EB25FB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64607-235E-425A-BF70-7C48DC9E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EA616-55BF-4451-B915-5DEAE59D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89A-2F9E-483A-8137-15F3015A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3EB4D-9E65-450D-8AF3-94B8E118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123EC-39BF-4FD1-A3FA-3F3E2AC6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4B04E-25B1-4EEB-A58F-8358D1D3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83D21-10E8-410E-9E56-04AE61E9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ACAAA-714E-40B9-9967-DE91B682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2D923-0FCB-468C-B28E-7E6368C7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8445A-2FF9-489A-AF0A-459F119D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D5448-2897-4B99-B36F-48ADFBA1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A847E-BBFE-4C87-AEEB-344D080F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F3BF6-DFFB-4AB7-9DCC-43864C05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916-3610-4DE0-B583-8F784AC9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CC2B7-721A-4B46-9ECE-56915DA6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ED846-0914-4FA3-B515-1D1C38C2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D4A80-9BC8-4BB6-BFEC-7B5F840C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0727A-A216-4D56-A48C-C59DF4D4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2B9E8-2F69-4156-B404-1DC99322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6CBC2-FAA2-4BCB-AA7D-15C0181D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E4EA4-9C09-4512-B184-B430D221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04984-71EF-4506-B5A4-3D98EFD0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BD94A-6CAC-4E72-9CBA-4D14CEA3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A474A-CFDD-48CB-B467-471E895F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3DC-DF2C-400C-92E5-6F255603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172F9-E53B-4BF7-8935-F289E427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DC68D-4576-4848-8A9C-9E22469A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76290-4F85-43D0-BA33-A39B74A4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ACC92-E1C7-45AC-BE09-7CD72F32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028CD-CE0F-4E0F-8FF8-11140E50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F4776-1EF6-4C5B-BC85-CD1F7934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1A22A-D74A-43EF-BD44-104A2E9D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955AD-03F3-4970-8019-EA313942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32B08-7156-49F8-BCC0-BA44E124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44975-D4F9-440B-91F5-D6160E1B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2FB4-23C2-4276-B93C-C26E3A89EC2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EAD8-A0C5-44E3-8BC3-96D6793F98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CEC3-EFA3-493C-934B-19A7EBA4089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6D6D-8457-4DD3-B72B-1E53A3534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AAD3-832E-4C29-89A3-E7C47B02D05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1187-CE86-4190-8775-7DA76653D77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3494-34F4-493A-9060-2257B554CAC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1797-2927-47CA-823B-FFBFCADEBE2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32D8-43FA-47B1-A388-1CFDD686B2B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CC79-D489-46E8-8EAC-BB5E604982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1584-67C6-4516-A1AC-E709CD744A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03A9-0D30-4332-A99A-0038CCBBA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AFE8-A0CD-4E5F-A6A2-3D0162C3DBD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A298-E1FD-491C-BE2F-FBC3FC43C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7BD3-8981-4F41-BFAB-4BCC3A90437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53A6-8F42-4B26-A7F5-EDCF7E49BAA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A782-4B05-4E57-9A12-E10F268F75A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AD0D-A262-4149-B79C-9C622735D8F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C958-3634-4BCE-B16E-8EA74CB47F4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233B-D9D4-4BFC-8D8A-36FB5FA514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F168-D5C4-47A5-A7AF-B5901D7C90F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6E81-00FB-4D90-AE37-666AA02E83C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20C8-CF11-4C56-8171-82E026C2B9F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D624-CC96-4000-A938-0B92EB169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E5D-6B40-4F5A-B4A6-25659D1945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A2C98-D6C1-40FC-AA5A-F542AEAEB373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031A5-B4B5-42C3-80C0-937466EC27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AF64BE61-FB98-4237-9ACA-FE62250729E4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42" dur="123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43" dur="123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4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5" dur="123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BC422-CC0B-4EBB-9447-D7BEDEDC7982}" type="slidenum">
              <a:t>3</a:t>
            </a:fld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C4A60-BB7F-4ABC-A96C-E608C3D9742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6B6BA98-4455-4AD1-B87D-527B9904C1CB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54375-81F9-4C12-A0AF-FCB13C0886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7673808-1AA1-4E2C-98A4-77813E64ACCE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9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3DE62-6CEF-4956-A0F6-E5890C8E23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3DCC245-07E4-4951-AD37-E5FCA5D0B282}" type="datetime1">
              <a:rPr lang="en-US"/>
              <a:t>07/29/26</a:t>
            </a:fld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