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25717"/>
        <c:axId val="71515586"/>
      </c:barChart>
      <c:catAx>
        <c:axId val="44425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5586"/>
        <c:crosses val="autoZero"/>
        <c:auto val="1"/>
        <c:lblAlgn val="ctr"/>
        <c:lblOffset val="100"/>
        <c:noMultiLvlLbl val="0"/>
      </c:catAx>
      <c:valAx>
        <c:axId val="7151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5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E62-A265-4FFF-B0C9-9D09A5C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599-DB87-4859-B670-C6E128E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858-0E78-4D0D-B772-E44020EC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F4D-5B27-49E8-A459-CE439CD5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BBC-38B5-4FC6-84D5-17D99E2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614-D9A6-4EC1-94CA-A2A2EAD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EEB-2E54-4410-A5A1-FAADC8BE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001-3F87-46BF-9C1C-30EA672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D4B-9A39-493B-96C8-C3146A4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C97-44EF-4DC0-A00F-B80535F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3B7-E588-4131-98FC-546AD5B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F01-7A00-4B38-AC8F-9675DD0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0D493-2D7C-44AF-BF26-49E220FDE7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