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94633"/>
        <c:axId val="49947823"/>
      </c:barChart>
      <c:catAx>
        <c:axId val="13994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47823"/>
        <c:crosses val="autoZero"/>
        <c:auto val="1"/>
        <c:lblAlgn val="ctr"/>
        <c:lblOffset val="100"/>
        <c:noMultiLvlLbl val="0"/>
      </c:catAx>
      <c:valAx>
        <c:axId val="49947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94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AA5-F5D4-43D3-9678-EF96D583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07F-3AEB-4D1E-97C7-05F1C1DB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F7A-9FD8-46B1-BA48-625ABF66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4AA-55AF-4CDA-AA93-AF1573E2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03F-CDE1-4FA0-AAC5-B64148D2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194-A6B1-4273-86AB-E065EF81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D3D-BA68-46CF-A7AC-B61FF3A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D71-EADF-4A26-B951-09F2F28D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695-668E-47C5-A5D0-B5F423C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D91-4B00-46A0-B25C-61070B9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ACD-84D4-45EC-999D-20DE6247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919-5C9B-4627-A213-C23B5A28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A7689-592D-43A6-8F7C-BCE46F3409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