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2459"/>
        <c:axId val="11988382"/>
      </c:barChart>
      <c:catAx>
        <c:axId val="3922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88382"/>
        <c:crosses val="autoZero"/>
        <c:auto val="1"/>
        <c:lblAlgn val="ctr"/>
        <c:lblOffset val="100"/>
        <c:noMultiLvlLbl val="0"/>
      </c:catAx>
      <c:valAx>
        <c:axId val="11988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2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89E-C93D-4A0C-BF42-27EDC354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837-E696-42FD-9234-DBC6489E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576-48A5-4E8F-A005-B250AE05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73F-3533-4183-AC33-9FE92CB2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41C-F49C-40DC-BC59-CED1CFF2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0ED-2BC5-4E6A-BF31-736B3D18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11C-D227-4FCE-BEF9-F3894345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5B3-8A4E-4C74-9733-839290CA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CAA-0D46-4A78-BBFB-587910A0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3D9-3013-4DDE-A554-89F33205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BDC3-0946-4248-84AB-96EA0C79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561-C825-4B5B-82B4-FF2074B8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A7A20-08F2-48AC-A523-17874156AC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