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4C069-B15D-4C05-B4A8-C19836E3F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82554-C07F-4A23-ADB4-D35F80ABA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37A87-3644-475D-AB54-A5FCDE344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D80C6-E33B-4AC1-A712-5FC282D4B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A67FE-94BF-4256-B9D6-0763C0AD1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168CB-DCBE-4D65-A873-C883C1CE3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55F0B-C410-4B4E-85BD-D9946CB1E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F1761-FA48-46E1-BC6D-C83EBC1EB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F12F9-3DD8-48B7-946C-224539841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16B7F-5FB1-47FE-A15A-9703E8873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B2EF6-CE0B-4209-A820-9AC012A5D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46276-DF77-4CE3-8354-0D3799E62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10306-8BD5-468F-82AF-69C7A99E5349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flowChartPrepa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p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flowChartManualIn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flowChartManualOpe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flowChartOffpage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ff-page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flowChartPunchedCar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lowChartPunched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unched 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umming J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flowChar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flowChartCollat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l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Alternat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flowChartSor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flowChartExtra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Ex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flowChartMer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e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tore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prstGeom prst="flowChartMagnetic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equential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gnetic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rect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defined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flowChartInternal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Internal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ulti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Termin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03:09Z</dcterms:created>
  <dc:creator>tb121644</dc:creator>
  <dc:description/>
  <dc:language>en-US</dc:language>
  <cp:lastModifiedBy>tb121644</cp:lastModifiedBy>
  <dcterms:modified xsi:type="dcterms:W3CDTF">2005-05-25T11:15:34Z</dcterms:modified>
  <cp:revision>2</cp:revision>
  <dc:subject/>
  <dc:title>Slide 1</dc:title>
</cp:coreProperties>
</file>