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56206"/>
        <c:axId val="50341254"/>
      </c:barChart>
      <c:catAx>
        <c:axId val="70156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41254"/>
        <c:crosses val="autoZero"/>
        <c:auto val="1"/>
        <c:lblAlgn val="ctr"/>
        <c:lblOffset val="100"/>
        <c:noMultiLvlLbl val="0"/>
      </c:catAx>
      <c:valAx>
        <c:axId val="50341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56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6AD-8566-4249-A0EA-92D1EB84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AB8-5543-4AD0-8642-9D806416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28B-0146-4E04-996B-4BC9B94C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B62-5A8F-4EB6-B61B-AB6E899C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2D3-8D0A-4C05-B557-E24B17C8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D16-F042-44E0-8179-71EB2BA2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565-0623-4EA5-A66B-9EBA61E6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A48-D693-4E57-B65F-3FC1EA16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CA9-FFFA-47F9-8179-1EB20364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F07-FF4E-4590-A804-5EB73FE2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D63-36D7-47A6-B9B1-CA85A2F6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175-D2F3-4704-A17E-112046F9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1FB7F-44AA-4F5A-B4D1-E1F7B7D63C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