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75875"/>
        <c:axId val="8887304"/>
      </c:barChart>
      <c:catAx>
        <c:axId val="58675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7304"/>
        <c:crosses val="autoZero"/>
        <c:auto val="1"/>
        <c:lblAlgn val="ctr"/>
        <c:lblOffset val="100"/>
        <c:noMultiLvlLbl val="0"/>
      </c:catAx>
      <c:valAx>
        <c:axId val="8887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75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432-A66E-4158-A18E-58AEB02E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566-5FBE-4884-8D7D-250C9087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783-88B2-4721-8109-511A8BEE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744-903F-4969-9C9C-AE40CEF2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C1C-EC1D-42FB-8304-8F31DD0A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9F9-E794-48BB-9875-5FCE21D4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534-8B33-4252-92BD-4BF6F3D4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9F9-DF8B-4581-B32B-A17BF833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10A-E13D-4127-A284-4846C6BB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267-59E8-452A-AB9F-C57D9013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68F-9268-4312-9782-A380A60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CA42-DF50-4F99-9809-96F83316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25382-190B-4D51-B47F-16BC12E94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