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311447"/>
        <c:axId val="3139447"/>
      </c:barChart>
      <c:catAx>
        <c:axId val="833114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39447"/>
        <c:crosses val="autoZero"/>
        <c:auto val="1"/>
        <c:lblAlgn val="ctr"/>
        <c:lblOffset val="100"/>
        <c:noMultiLvlLbl val="0"/>
      </c:catAx>
      <c:valAx>
        <c:axId val="31394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3114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2C66-C474-4B44-A197-140F396C3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60EE-5999-48DD-9450-26D93681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55EA-0B69-461D-9B90-C16A08534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1578-9FCC-43A4-9522-338A21BCB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329F-D4EF-4A27-B16F-6C207268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32DC-9DE0-4FF3-A5F7-6FFF0644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A79A-A4E1-45B4-9042-597810EA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2FCF-A908-4813-A01F-46E13A45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C7E1-7B3D-4DF7-AF83-50934FF1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0D18-E64C-40B1-A0BE-F6B5DE79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651C-CE26-4C19-A16C-A5C5F269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933C-5EDD-4993-8827-0E16DC34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A78DEE-9F44-454D-958B-9B4569365F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