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4948"/>
        <c:axId val="62507796"/>
      </c:barChart>
      <c:catAx>
        <c:axId val="5964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07796"/>
        <c:crosses val="autoZero"/>
        <c:auto val="1"/>
        <c:lblAlgn val="ctr"/>
        <c:lblOffset val="100"/>
        <c:noMultiLvlLbl val="0"/>
      </c:catAx>
      <c:valAx>
        <c:axId val="62507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4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9A3-3159-4FD2-8409-D564D282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5E7-9A44-451F-841F-241F06E9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FE3-A36C-4F0B-BC9B-DF69A9E5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D86-2FF7-4912-8E8A-CD029638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579-DECF-44DA-BB0E-7DA19582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311-B7AE-470B-B8E3-19296C7C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A1D-17E3-4F14-8C33-9716FD0A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10E-30A2-4477-80C5-9732EA15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CDE-9D77-4358-A122-955C106E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46E-7A30-48CE-AF0A-BA811C0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0BF-9AB7-45E9-9C6C-14C5F881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03C-A486-4947-92D0-48805D2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CB727-1FC6-404C-9843-537CFDA1CF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